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B447-C362-4C7A-B8C4-7FCEA179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2D87-A8BF-4DB4-9084-0D94CC56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6177-E955-46BD-9998-93BF9DC7F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B235-81A7-4F5A-B4AB-3D3E274B9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1772-3F5C-45F4-9DF8-AD9347DB7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2CDE-84C5-43FF-8128-CAD5D257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6224-1912-48F6-BE2E-E97DC67E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444E-3273-4D5A-BC2E-C23B1668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20FC-8187-40A0-9646-7E93FD88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30174-304E-4A2A-9848-77BD7041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82C9-54D0-40BB-AFE4-E787F36D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E53D-B50B-4876-89F0-B1BECFBE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DC42-03BE-4D1C-99F0-1F634FCB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2285-1CC2-4FD9-80EB-B6367277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1F17-BD08-40A5-9E4E-88D66E8D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FA66-CE3A-4F08-B9AC-F62EF6A0F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5EF6-71C8-4F7F-B883-604E543B8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B596-569C-4526-839F-D749F0A5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0F40-73BF-42CF-8BBB-C4838C4E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0ACC-757C-4576-890A-704BBCCC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25BA-529B-40AA-ADC2-90C62D1C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0FF7-9226-486F-B131-E8500DD8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8E63-1B2E-48EC-A63E-524E1283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CF6C-1AE4-4F63-A556-4BC9EA76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FFD2-1C77-44CA-A5F5-C8BFE5F30054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4915-B9FD-4CCD-B0E3-5CA89AC2AF2B}" type="slidenum">
              <a:rPr b="0" lang="it-IT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9400" y="973080"/>
            <a:ext cx="7678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ahoma"/>
              </a:rPr>
              <a:t>Science, Technology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Tahoma"/>
              </a:rPr>
              <a:t>and Economic Development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Tahoma"/>
              </a:rPr>
              <a:t>in South Eastern Europ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Milica Uva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University of Perug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UNESCO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Ljubljana, 28 &amp; 29 September 20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B74C-EF81-41B8-9B6A-10F2DD2DBE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(1) National policies 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Reforms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 course in all SEE Cs, also in S&amp;T and Higher Education (at variable speed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w laws on Science in all Cs (+ HE), various government documents, drafting of national strate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Yet, delays in implementing changes/law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&amp;T in the shadow of other priorities, lack of understanding of the importance of sc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2746-95AB-4B25-ADD2-8C4D3E74AE1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National policies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Reforms </a:t>
            </a:r>
            <a:r>
              <a:rPr b="1" i="1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 Major institutional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differenc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iH: highly fragmented and decentralised system (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o R&amp;D policy at state leve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erbia: R&amp;D decentralised, separate S&amp;T and HE institutions &amp; government poli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ontenegro: more centrali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roatia: very centralised - one law for R&amp;D &amp; HE + recent merging of the 2 Minist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7871-7574-46F4-8428-14EA60C6E7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National policies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National strategies and key prior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overnment documents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define programs, specific tasks, multiple objective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ill, in most Cs: no clear orientation regarding priorities (basic/applied research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o clear and realistic longer-term national strategy on R&amp;D (innovation Vs. imi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7849-7680-4C1D-B774-2AA666BDBD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(2)Investment in R&amp;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conomic constraints (heritage of the 1990s)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science/R&amp;D/HE: poorly fun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&amp;D expenditure generally low, but no data for Albania, BiH, Montenegro; for Serbia partial (only government spend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overnment: prevalent source of fi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dustry funds limited, also due to delays in privatisation (S&amp;M, BiH: private sector share 55% of GDP), limited links with univers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820E-DB5F-4A5F-8F5E-0DECFC6C38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Gross domestic expenditure on R&amp;D, % GDP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(GERD):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200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Croati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: GERD highest -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1.14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% of GDP, higher than in most new EU member states (exc. Czech Rep, Slovenia), even old (Ital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Serbi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: government expenditure: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0.32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% of GDP, but continuously rising - plans to increase 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&amp;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 spending to 1.4% by 20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Mace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: GERD even lower: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0.22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% of GD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BiH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: GERD estimated at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0.03-0.05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% of GD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Albania, Montenegro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: no data on GE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52EA-847C-49AF-B5C1-BB72DCCA70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Gross domestic expenditure on R</a:t>
            </a: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&amp;D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(% GDP), 2000-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217520" y="2017800"/>
          <a:ext cx="77011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7520" y="2017800"/>
                    <a:ext cx="7701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445E-82AF-443B-868A-EE75B452EE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GERD financed by industry?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ahoma"/>
              </a:rPr>
              <a:t>Business enterprises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R&amp;D spending  (as share of total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[in 2004-5 data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provided by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nly 2 Cs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roatia: almost 40% of total (200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YR Macedonia: only 12% of total (200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ubstantially less than the average for EU-15 (in 2003: 54.6%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A524-E30B-4E10-9D20-E8561BC1C1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(3)Infra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oor financial situation of R&amp;D institutions in SEE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limited possibilities to modernise scientific infrastructure (purchase new equipment, modernise laboratories, libraries,  ICT systems, Internet access, data ba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ill, big differences, richer countries (Croatia) better o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enerally, inappropriate treatment of R&amp;D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serious obstacle for more intensive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E654-26CB-4026-A52E-CFC8427796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(4)Human resour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eak-up of SFRY, wars, economic crises (1990s)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dramatic effects for all 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1) Massive &amp; continued </a:t>
            </a: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brain drai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(loss of best exper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2) </a:t>
            </a: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Brain “waste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”: leaving R&amp;D professions for more profitable jobs (private or informal s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&amp;D professions unattractive: low pay, no social status, no employment opportunities 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no incen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D4DB-FE08-49A6-A85D-EE6F4B069B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Human resources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ramatic proportions of </a:t>
            </a:r>
            <a:r>
              <a:rPr b="1" i="1" lang="en-GB" sz="3200" spc="-1" strike="noStrike">
                <a:solidFill>
                  <a:srgbClr val="000000"/>
                </a:solidFill>
                <a:latin typeface="Tahoma"/>
              </a:rPr>
              <a:t>brain-d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irana University lost 40% of its academic staff in the 1990s (90% under 40 years 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assive brain-drain also from BiH, Mac, Serbia, Kosovo (estimates va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parture of best experts, deficit of researchers of middle age gen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8478-2787-44EC-9EE9-B898A22561A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Why invest in science in SE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mparative overview of the situation in the  S&amp;T sector in Southeast Europe (SE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[2 studies prepared in 2005: UNESCO, Slovenian Ministry for HEST(SEE-ERA.NET)]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EE: 6 “western Balkan” countries: Albania, BiH, Croatia,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YR of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acedonia, Montenegro, Serbia (excl. Kosovo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2E61-DE73-458D-B875-27B106F4C6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Human resources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arly 1990s: general tendency of decreasing number of researchers in all count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ince 1997, trends on R&amp;D personnel extremely variabl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bania, Croatia: number of researchers &amp; scientists increa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cedonia, Serbia: number of researchers stagnating or decl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iH: no statistics on total R&amp;D personnel (only on professo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C62F-1AD9-4191-9631-E0F5A2C758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(5) S&amp;T outp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pward trends in technological and scientific output in most SEE C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[But for Albania &amp; BiH: no data on R&amp;D output, no Patent offices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Patents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 most Cs the number of patents recently increa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Scientific publications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enerally increasing, but associated with various problems, general and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CC14-6B19-41CD-9757-601121A9CE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cientific outp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eneral problems: evaluation methods, non-existence of single databases, some fields (engineering) difficult to eval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pecific problems in SEE: years of isolation, non-inclusion of national journals into intern. data bases, limited international exchange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cently all SEE Cs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improvement of systems of evaluation of scientific output …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FF60-B400-46DA-B3D7-7244DDE4D8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3.Why invest in scienc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verview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oor conditions of the S&amp;T sector in SEE countr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Theory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: from Schumpeter onwards,  innovation as driver of economic grow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odern growth the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omer (1990): Technological progress as endogenous factor of growth, result of R&amp;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ghion and Howitt (1992): competition in R&amp;D driving force of grow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Grossman and Helpman (1993): innovation as the direct effect of R&amp;D investment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0709-1BE2-4640-9C55-AF2200FFFD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invest in science in SE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Empirical evidence: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importance of innovation for growth (e.g. Brasil, Indi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What drives innovatio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? GDP levels, trade, human capital, government spending, protection of intellectual property right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cent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empirical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tudy (Trumbic 2006)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most significant variables for OECD countries: R&amp;D spending and edu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r non OECD countries: GDP per capita levels and investments in R&amp;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90F1-5623-4018-BB7D-142E15B687D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invest in science in SE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EU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: R&amp;D perceived as a key resource for competitiveness and long-term grow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ransition to a knowledge-based econom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isbon &amp; Barcelona European Counc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&amp;D spending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3% of GDP by 20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dustry-financed R&amp;D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2/3 of tot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uropean Research &amp; Higher Education Are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novation and information technologies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ighly relevant for SEE Cs aspiring to join EU (though only Croatia negotiating EU entry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D932-FC01-4C31-BAFF-FC3E14013D4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4.Policy implic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&amp;T sector in SEE: progress in recent years, but a lot more could be d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ore appropriate policies needed to prevent an increase in the S&amp;T gap between the SEE Cs and more developed count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ational poli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ternation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A376-D649-4EC1-9CE1-2FF2F1B8B39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olicy implic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National poli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aise public awareness about the knowledge-based economy (key role of innovation and technological prog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hange present inappropriate treatment of R&amp;D (marginalisation of sci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crease expenditure on R&amp;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acilitate links between industry and universities, encourag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Government measures needed in all area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6C63-FB43-40D3-AAB8-C18740411EC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olicy implic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ight balance between restrictive macroeconomic policies &amp; those with long-term effects (competitiveness)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vesting in human capital, education, life-long training, requalifications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ttract more FDI,</a:t>
            </a: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y further improving business environment, decreasing country ri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mprove statistics</a:t>
            </a: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data collectio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12E3-EBCD-45B0-BC37-67A6323D4E1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olicy implic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International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nstant renewal of links of SEE Cs since 2000 (international, regional, bilateral donors support), results clearly positive for S&amp;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rticipation of SEE Cs in EU 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 6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 7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FP, COST, EUREKA, TEMPUS, gradual integration into European Research A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onal networks in R&amp;D (?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International assistance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in S&amp;T remains important in the medium run - much more could be d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707E-A7F8-41E6-8F44-AFF77EF726B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1.Economic constraints on S&amp;T in SEE 2.National systems of S&amp;T in S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1) National poli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2) Investment in R&amp;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3)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4) Human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5) S&amp;T output (patents, publicatio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3.Why invest in science in SEE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4.Policy recommend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DFC5-31D0-4F66-BF91-14D5022FCB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olicy implic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aking all SEE Cs eligible for EU programs reserved for candidates (as recently done with e.g. EIB’s Innovation 2000 Initiativ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ill today: limited funds for longer-term research, or researchers 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onors aid often short-term, no interest to invest in certain key areas (S&amp;T infrastructure, modernisation of laborator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Better matching of donors financial assistance &amp; national prior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3D00-2785-43FB-9515-C3EAFF362DC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olicy implic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Longer-term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strategy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on S&amp;T in SEE, also in a regional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ach SEE country: innovation Vs. imi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tential for innovation and specialisation in specific s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sirability of transferring technology from abroad (also through FDI) in other s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mportance of international support in this regard (learning from western experi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9F0F-C059-4E0B-8C33-5033E7826E6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1.Economic constrai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1989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ransition in SEE, but break-up of Yugoslavia (mid-’91)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olitical: 5 military conflicts, UN/EU sanctions, international isolation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conomic: hyperinflation, very deep recession (drop of GDP of 80% in 3 years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layed transition and integration with E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ong-lasting consequences for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EE 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sent economic featur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se severe constraints on development of S&amp;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C35B-2113-4BA8-846D-582A895131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conomic constraints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Low level of development: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Slow recovery after deep recession and recurrent cri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2000 onwards: high growth rates, but slow process of catching up, some Cs still at 55-60% of 1989 GDP (Serbia, B&amp;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2004: most SEE Cs GDP/head (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rket exchange rates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$ 2000-3000  (20-32% of EU-2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ception: Croatia almost US$7,000 (46% EU-2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F2B4-CE55-4B7A-8041-364ABEF9BF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2004 GDP per capita (US$) at </a:t>
            </a: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market exch rates and PP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68440" y="1981080"/>
            <a:ext cx="72007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4B2E-1030-41F7-84E7-B1135D4EAA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conomic constraints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Budgetary constraints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osed by restrictive economic policies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severe cuts in public expenditure (also R&amp;D, education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External accounts deficits: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non-diversified exports (labour-intensive goods), dependence on imported technolog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National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saving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&amp;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investment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Limited FDI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: 1989-2002: SEE-5 attracted only 6.1% of total FDI in 27 transition 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DI picking up only recently, yet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AE19-9D78-405E-82C2-CA9E873E59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333399"/>
                </a:solidFill>
                <a:latin typeface="Tahoma"/>
              </a:rPr>
              <a:t>FDI, 2000-5 (billion US$)</a:t>
            </a:r>
            <a:br>
              <a:rPr sz="3600"/>
            </a:b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EE-5: annual FDI still under US$ 5 bill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68440" y="2017800"/>
            <a:ext cx="72007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84B5-C044-4114-B2C4-EEEC567CE2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2.National systems of S&amp;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Historical background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arting conditions in 1989 very diffe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ore favourable in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SFR Yugoslavia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stitutions, human capital, Universities (Zagreb 1669, Belgrade 1889), openness (intern coop, scientific exchange, travel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Albani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: traditional model, most closed economy, first University set up in 195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mportant still today (institutions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746C-A298-4C3D-90AE-1927C73733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7T18:54:40Z</dcterms:created>
  <dc:creator>utente</dc:creator>
  <dc:description/>
  <dc:language>en-US</dc:language>
  <cp:lastModifiedBy>Uvalic</cp:lastModifiedBy>
  <cp:lastPrinted>2004-08-24T18:03:30Z</cp:lastPrinted>
  <dcterms:modified xsi:type="dcterms:W3CDTF">2006-09-25T15:36:14Z</dcterms:modified>
  <cp:revision>161</cp:revision>
  <dc:subject/>
  <dc:title>Transition in SEE - Specific problems of Serbia and Montenegro</dc:title>
</cp:coreProperties>
</file>