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D0BA-FC18-4268-A557-C9E1384A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5D3D-FEF3-45DD-B6A9-EE2B7844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EC6-AA85-484F-AC93-8E9171D8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984-D299-4DF1-B498-036F6ACB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0A08-BE66-4F07-B74A-291D9727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7CED-9119-4256-B67B-667CE12A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C0E6-E645-4005-B78E-7C729A58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5CB2-D140-4ACB-B8D8-8D737A16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9E3C-4889-4491-9D97-167DD750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C368-03E4-4C9C-A004-10146BCE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04E3-750C-4F25-9751-854B8EDC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D5D-66B9-401B-A4A1-5C0ECCAD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7607-DBE3-486C-B755-E38404C5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6F14-E7E3-4D6D-88B1-B1649320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4D99-497A-4D6D-8BAF-052CF11B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69FE-12D9-441E-845A-08265E24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AE89-B957-4254-AC3A-F245DACD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361-A14B-47AB-951A-E1AC651A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273-E9A9-4902-B8F9-00EF5A55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153-CBCE-41E0-9084-166D12E1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3DD-DF5B-415E-B14F-2A402674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20D-A984-419C-B3C7-E5E97A91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B06-1CC2-4263-BBC7-C71FBD8A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FE9-85D7-4D56-A77A-F2A5C72D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D529-7896-4BB5-8BF9-C738D3A335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0FB4-508E-46B6-9C00-91CBF9021A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Academy-Industry-Government Partnerships for Innovation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Henry Etzkowitz and  Marina Ranga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Business School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University of Newcastle upon Tyn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1760" y="236232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-Evolution of University      Mi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ing: Individuals and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: Individual and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onomic and Social Developm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nies and Reg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University of the Future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UB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25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ubators Integrated into Academic Un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25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brid centers comprising academic, industry and government researc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25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tual classes including on-campus and off-campus particip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gional Innovation Organizer (RIO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onal Authority: governmental or quasi-governmen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s the lead in creating a consensus space bringing together triple helix acto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England Cou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 Venture Silicon Val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iple Helix Twins Yin-Yang Taiji: Innovation and Sustainabi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90600" y="1981080"/>
          <a:ext cx="4762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0600" y="1981080"/>
                    <a:ext cx="4762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iple Helix Twi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2416320"/>
          <a:ext cx="380988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16320"/>
                    <a:ext cx="380988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648320" y="2448000"/>
          <a:ext cx="3809880" cy="317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448000"/>
                    <a:ext cx="3809880" cy="31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CALL FOR PAPERS AND PANELS</a:t>
            </a:r>
            <a:br>
              <a:rPr sz="40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br>
              <a:rPr sz="16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h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Triple Helix Conference</a:t>
            </a:r>
            <a:br>
              <a:rPr sz="4800"/>
            </a:br>
            <a:br>
              <a:rPr sz="1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“Varieties of Entrepreneurial Universities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ingapore </a:t>
            </a: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 May 200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searchers and practitioners  interested in University- Government- Industry interactions.</a:t>
            </a:r>
            <a:br>
              <a:rPr sz="3200"/>
            </a:br>
            <a:br>
              <a:rPr sz="1000"/>
            </a:br>
            <a:br>
              <a:rPr sz="1100"/>
            </a:br>
            <a:br>
              <a:rPr sz="1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    www.triplehelix6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iple Helix Th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versity Plays leading role in Knowledge-based Society: shift from secondary to primary institutional sphe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Separate or Dominant to Overlapping Institutional Sphe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the role of the other e.g., university forming firms; government as venture capitalist; industry raising training to higher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Statist Triple Helix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914400"/>
            <a:ext cx="7086600" cy="6248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2438280"/>
            <a:ext cx="2286000" cy="1981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438280"/>
            <a:ext cx="2209680" cy="1981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ad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st Triple Heli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vernment dominates other sphe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-down bureaucratic co-ord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project ment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ustry: national champ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ity: primarily teaching instit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00400" y="228600"/>
            <a:ext cx="2743200" cy="2362320"/>
          </a:xfrm>
          <a:prstGeom prst="ellipse">
            <a:avLst/>
          </a:prstGeom>
          <a:solidFill>
            <a:srgbClr val="ff00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962520"/>
            <a:ext cx="2743200" cy="2361960"/>
          </a:xfrm>
          <a:prstGeom prst="ellipse">
            <a:avLst/>
          </a:prstGeom>
          <a:solidFill>
            <a:srgbClr val="ff66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3962520"/>
            <a:ext cx="2743200" cy="2361960"/>
          </a:xfrm>
          <a:prstGeom prst="ellipse">
            <a:avLst/>
          </a:prstGeom>
          <a:solidFill>
            <a:srgbClr val="3366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ad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71800" y="2437920"/>
            <a:ext cx="990720" cy="167652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2438280"/>
            <a:ext cx="838080" cy="175284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5181480"/>
            <a:ext cx="1905120" cy="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28954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issez-faire Triple Hel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aissez-Faire Triple Helix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Separate Sphe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ity: basic research and human resource provi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ustry: Firms linked by mar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vernment: limited to addressing market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vidualistic mentality; heroic entreprene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 Units Across strong bounda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971800" y="2743200"/>
            <a:ext cx="2743200" cy="26668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4038480"/>
            <a:ext cx="2743200" cy="2667240"/>
          </a:xfrm>
          <a:prstGeom prst="ellipse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4038480"/>
            <a:ext cx="2743200" cy="266724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ad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52280"/>
            <a:ext cx="838188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Hybrid Organizations and Action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e.g. Incubator Mov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600200"/>
            <a:ext cx="1371600" cy="33526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419720" y="1600200"/>
            <a:ext cx="1752480" cy="3429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etitive  Advantage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 through of stud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inven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ITU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manent sta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th of expert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niversity Mi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Academic R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 19th century; ongo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search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 groups and cen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cond Academic R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th century; ongo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trepreneurial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firms and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9805-05-08T08:04:55Z</dcterms:created>
  <dc:creator>Henry Etzkowitz</dc:creator>
  <dc:description/>
  <dc:language>en-US</dc:language>
  <cp:lastModifiedBy>henry etzkowitz</cp:lastModifiedBy>
  <dcterms:modified xsi:type="dcterms:W3CDTF">2006-09-28T06:59:57Z</dcterms:modified>
  <cp:revision>50</cp:revision>
  <dc:subject/>
  <dc:title>TRIPLE HELIX TWINS</dc:title>
</cp:coreProperties>
</file>