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A39-84EB-4A8B-85BF-B33BA6E82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A45-DE0F-45DE-BEF5-C250EFD8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836-2579-4890-AC13-98DA580A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7A8-03F3-440D-A2D4-461ACE48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A52-924D-4651-9AE0-4F3890C6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06F-9112-4245-8EA2-1F078E4F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CDE-7CB1-4ECB-A0A8-0151F33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6222-E70F-4CC2-B49C-9B798564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BF0-81FF-4E1B-974C-DD6AA36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B041-7964-491B-9B96-F9BCB5A9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015-2326-4761-9511-C0346AB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1170-B060-46C9-8A5A-5DBDCF3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D37-9664-44D2-BDE9-E006D20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36BC-6B78-4F0B-AE81-E9041A1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49B9-B65F-4A31-90E9-15EFE971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AF3A-BA00-42C5-949F-86759180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15C-4121-4838-9CF5-CC33BA79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27E6-629B-4BF2-8AFA-A2DD21F8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10F-60DB-4EDB-B609-F78E60DC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F5D-BA1E-412F-AF37-260E105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98B-7D2C-4CA7-80F2-ED8BFC75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E4B-A7B7-436E-B62E-C15E2A3F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95F-915F-4096-ABE7-F1882580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507-49FA-4747-B1FC-278F3B5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50E-8CA0-498C-BCDF-6476B42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DFFE-4751-4E57-BCDD-9AEB2538156E}" type="slidenum">
              <a:rPr b="0" lang="en-US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54D-074B-42B7-82BA-1730530AF394}" type="slidenum">
              <a:rPr b="0" lang="en-US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213372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15080" y="76320"/>
            <a:ext cx="227664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2280" y="2590920"/>
            <a:ext cx="8839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CIENCE AND RESEARCH IN </a:t>
            </a:r>
            <a:endParaRPr b="1" lang="en-US" sz="24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THE REPUBLIC OF MACEDONIA</a:t>
            </a:r>
            <a:endParaRPr b="1" lang="en-US" sz="24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4952880"/>
            <a:ext cx="87631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rof. D-r Viktor Stefov, 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resident of the Council for Science and Research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inistry of Education and Science of Republic of Macedonia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320" y="1752120"/>
            <a:ext cx="9067680" cy="470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99000"/>
          </a:bodyPr>
          <a:p>
            <a:pPr marL="436680" indent="-436680">
              <a:lnSpc>
                <a:spcPct val="8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Financing of Science and Technology in Maced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alary for Public Scientific Institutions and High Education Institu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grams for Public Scientific Institu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Fellowship for postgraduate and doctoral studen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articipation in scientific meeting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Research projects, Technological development project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Bilateral projec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8963"/>
                </a:solidFill>
                <a:latin typeface="Arial"/>
              </a:rPr>
              <a:t>Equipmen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897120" indent="-282960">
              <a:lnSpc>
                <a:spcPct val="80000"/>
              </a:lnSpc>
              <a:spcBef>
                <a:spcPts val="649"/>
              </a:spcBef>
              <a:buClr>
                <a:srgbClr val="004c2b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8963"/>
                </a:solidFill>
                <a:latin typeface="Arial"/>
              </a:rPr>
              <a:t>Investments in infrastructur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FINANCIAL ASPECT OF SCIENCE AND TECHNOLOGY IN R.MACEDONIA</a:t>
            </a:r>
            <a:endParaRPr b="0" lang="en-US" sz="38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32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grated approach in the research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469880" indent="-22860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ecess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469880" indent="-22860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nition of criteria for supporting R&amp;D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nlargement of the amount for fellowshi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ization of R&amp;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gional coope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ra governmental coordin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nition of prior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stablishing a peer evaluation proced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NEW STRATEGY FOR IMPROVEMENT OF R&amp;D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59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CENT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7680" indent="-28728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Enabled national access to SCOPU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7680" indent="-28728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onstruction of database with publications and citations of institutions and researchers from R. Macedoni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7680" indent="-287280">
              <a:buClr>
                <a:srgbClr val="004c2b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onstruction of a database of patents in R. Macedonia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574560" indent="-38412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UTURE ACTIVITIES are set in the Action Plan of the Program for development of R&amp;D for 2006-2010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NEW STRATEGY FOR IMPROVEMENT OF R&amp;D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Institute of Chemistry, Faculty of Natural Sciences and Mathematic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Research Centre for Genetic Engineering and Biotechnology, Macedonian Academy of Sciences and Art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Nephrology Clinic, Faculty of Medicine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82760" indent="-48276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Institute for Earthquake Engineering and Engineering Seismology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POTENTIAL CENTERS OF EXCELLENC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320" y="1599840"/>
            <a:ext cx="899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Programs for improvement of R&amp;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encouraging and supporting national R&amp;D projects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granting fellowships for post-graduate and doctoral studies both in the country and abroad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supporting researchers for participation at international meetings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target research program for coordination of the R&amp;D activities within the governmental bodies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574560" indent="-188640">
              <a:spcBef>
                <a:spcPts val="601"/>
              </a:spcBef>
              <a:buClr>
                <a:srgbClr val="004c2b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2b"/>
                </a:solidFill>
                <a:latin typeface="Arial"/>
              </a:rPr>
              <a:t>for development of R&amp;D infrastructu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GOVERNMENTAL MEASURES IN THE R&amp;D SECTOR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5638680"/>
            <a:ext cx="8534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Program for development of R&amp;D for 2006-201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067680" cy="3429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7620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For enhanced technological development, measures are taken in order to: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757080" indent="10332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4c2b"/>
                </a:solidFill>
                <a:latin typeface="Arial"/>
                <a:ea typeface="Times New Roman"/>
              </a:rPr>
              <a:t>	</a:t>
            </a:r>
            <a:r>
              <a:rPr b="1" lang="nl-BE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stimulate and support the cooperation between the universities and the industry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757080" indent="10332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improve and intensify the use of the scientific research results in the industry;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757080" indent="10332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4c2b"/>
                </a:solidFill>
                <a:latin typeface="Arial"/>
                <a:ea typeface="Times New Roman"/>
              </a:rPr>
              <a:t>promotion of the technological development of the enterprises aimed at stimulation of their competitiven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GOVERNMENTAL MEASURES IN THE R&amp;D SECTOR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REPUBLIC OF MACEDONIA R&amp;D COOPERATION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Bilateral cooperation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25146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OST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1240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FP6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3733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NATO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4197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UNESCO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IAEA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7913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1001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JICA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Bilateral cooper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82760">
              <a:spcBef>
                <a:spcPts val="799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&gt;100 bilateral projects with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erb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Bulga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58680" indent="-28548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552760"/>
            <a:ext cx="403884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77720" indent="-477720"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New with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Alba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Russian Fede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48960" indent="-282600">
              <a:spcBef>
                <a:spcPts val="901"/>
              </a:spcBef>
              <a:buClr>
                <a:srgbClr val="57896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Austria, so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8600" y="1523880"/>
            <a:ext cx="8686800" cy="3809880"/>
            <a:chOff x="228600" y="1523880"/>
            <a:chExt cx="8686800" cy="3809880"/>
          </a:xfrm>
        </p:grpSpPr>
        <p:sp>
          <p:nvSpPr>
            <p:cNvPr id="249" name=""/>
            <p:cNvSpPr/>
            <p:nvPr/>
          </p:nvSpPr>
          <p:spPr>
            <a:xfrm>
              <a:off x="228600" y="1523880"/>
              <a:ext cx="8686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82760">
                <a:spcBef>
                  <a:spcPts val="700"/>
                </a:spcBef>
                <a:buClr>
                  <a:srgbClr val="004c2b"/>
                </a:buClr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R.Macedonia became a member in May 2002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  <a:p>
              <a:pPr marL="482760" indent="-482760">
                <a:lnSpc>
                  <a:spcPct val="90000"/>
                </a:lnSpc>
                <a:spcBef>
                  <a:spcPts val="1874"/>
                </a:spcBef>
                <a:buClr>
                  <a:srgbClr val="004c2b"/>
                </a:buClr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Macedonian scientists participate in 25 COST Actions in the fields of </a:t>
              </a:r>
              <a:r>
                <a:rPr b="0" lang="en-US" sz="3000" spc="-1" strike="noStrike">
                  <a:solidFill>
                    <a:srgbClr val="004c2b"/>
                  </a:solidFill>
                  <a:latin typeface="Arial"/>
                </a:rPr>
                <a:t>(civil engineering, forestry and forest products, agriculture and biotechnology, chemistry, physics, life sciences, telecommunication)</a:t>
              </a:r>
              <a:endParaRPr b="0" lang="en-US" sz="3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" y="4343400"/>
              <a:ext cx="8686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82760">
                <a:spcBef>
                  <a:spcPts val="700"/>
                </a:spcBef>
                <a:buClr>
                  <a:srgbClr val="004c2b"/>
                </a:buClr>
                <a:buFont typeface="Monotype Sort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Macedonia hosted the 158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Arial"/>
                </a:rPr>
                <a:t>th</a:t>
              </a:r>
              <a:r>
                <a:rPr b="1" lang="en-US" sz="2800" spc="-1" strike="noStrike">
                  <a:solidFill>
                    <a:srgbClr val="333333"/>
                  </a:solidFill>
                  <a:latin typeface="Arial"/>
                </a:rPr>
                <a:t> Meeting of the COST Senior Officials in February 2004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6</a:t>
            </a:r>
            <a:r>
              <a:rPr b="1" lang="en-US" sz="4400" spc="-1" strike="noStrike" baseline="30000">
                <a:solidFill>
                  <a:srgbClr val="004c2b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 FRAMEWORK PROGRAM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5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0 projects approved (from &gt;200 proposal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8000" indent="-378000">
              <a:lnSpc>
                <a:spcPct val="125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2 multilateral projects (Dept. Science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85840">
              <a:spcBef>
                <a:spcPts val="876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SEE-ERA-N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85840">
              <a:spcBef>
                <a:spcPts val="876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ERA WEST BALK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1148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lnSpc>
                <a:spcPct val="125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.5 million EUR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TRUCTURE OF THE PRESENTATION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irror of Macedonian sci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Institutional infrastructur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tagonists of science poli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cientific human resour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egal fram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Financial  aspec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ew strateg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Governmental measur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5789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acedonian participation in international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TATUS AND PERSPECTIVES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In the ANALYTICAL REPORT for the opinion on the application of the Republic of Macedonia for EU membership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(General evaluation, page 137*)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If it continues its efforts, the Republic of Macedo-nia should not have major difficulties in applying the </a:t>
            </a:r>
            <a:r>
              <a:rPr b="1" i="1" lang="en-US" sz="2800" spc="-1" strike="noStrike">
                <a:solidFill>
                  <a:srgbClr val="004c2b"/>
                </a:solidFill>
                <a:latin typeface="Arial"/>
              </a:rPr>
              <a:t>acquis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in the medium term in the following field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Science and research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8963"/>
                </a:solidFill>
                <a:latin typeface="Arial"/>
              </a:rPr>
              <a:t>*http://www.sei.gov.mk/documents/eip/ANALYTICAL_REPORT_COM(2005)562.pdf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52280" y="152280"/>
            <a:ext cx="9144000" cy="6348960"/>
            <a:chOff x="152280" y="152280"/>
            <a:chExt cx="9144000" cy="634896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6095880" y="2719440"/>
              <a:ext cx="32004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52280" y="2719440"/>
              <a:ext cx="320040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160" y="531000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Arial"/>
                </a:rPr>
                <a:t>Macedonia's Megalithic Kokino Observatory is more than 3,800 years old. NASA has ranked it the fourth oldest in the world.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2819160" y="152280"/>
              <a:ext cx="358164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 txBox="1"/>
          <p:nvPr/>
        </p:nvSpPr>
        <p:spPr>
          <a:xfrm>
            <a:off x="1523880" y="2895480"/>
            <a:ext cx="6782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THANK YOU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FOR YOUR ATTENTION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AND ENJOY...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480" y="380520"/>
            <a:ext cx="89532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CIENTIFIC INSTITUTIONAL </a:t>
            </a: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INFRASTRUCTURE</a:t>
            </a: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 IN R.MACEDONIA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20570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Universities (5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culties (37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ublic Scientific Institutes (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lleges (2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acedonian Academy of Sciences and Ar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mbers (42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partments (5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45280" indent="-282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search Centers (2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Independent research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UNIVERSITIE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State Univers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ts “Cyril and Methodius” – Skopj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ts “Clement of Ohrid” – Bitol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etovo University - Tetov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2001"/>
              </a:spcBef>
              <a:buClr>
                <a:srgbClr val="004c2b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Private Univers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niversity of South and Eastern Europe – Tetov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0400" indent="-29196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uropean University - Skopj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PROTAGONISTS OF SCIENCE POLICY IN R.MACEDONIA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4c2b"/>
              </a:buClr>
              <a:buSzPct val="12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inistry of Education and Scie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861480" indent="-33300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004c2b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Department of Science and Technolo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planning of scienc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legal aspects of science and techn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technological development and technical cultu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76840" indent="-140040">
              <a:lnSpc>
                <a:spcPct val="90000"/>
              </a:lnSpc>
              <a:spcBef>
                <a:spcPts val="601"/>
              </a:spcBef>
              <a:buClr>
                <a:srgbClr val="004c2b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nit for International Scientific Cooperation </a:t>
            </a: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(FP6, COST, NATO, UNESCO, IAEA, JICA, bilateral cooperati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181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36720" indent="-362160">
              <a:lnSpc>
                <a:spcPct val="100000"/>
              </a:lnSpc>
              <a:spcBef>
                <a:spcPts val="700"/>
              </a:spcBef>
              <a:buClr>
                <a:srgbClr val="004c2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Council for Science and Resear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SCIENTIFIC HUMAN RESOURCES IN MACEDONIA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2209680"/>
          <a:ext cx="8610480" cy="2971800"/>
        </p:xfrm>
        <a:graphic>
          <a:graphicData uri="http://schemas.openxmlformats.org/drawingml/2006/table">
            <a:tbl>
              <a:tblPr/>
              <a:tblGrid>
                <a:gridCol w="2133720"/>
                <a:gridCol w="914400"/>
                <a:gridCol w="838080"/>
                <a:gridCol w="914400"/>
                <a:gridCol w="914400"/>
                <a:gridCol w="990720"/>
                <a:gridCol w="990360"/>
                <a:gridCol w="914400"/>
              </a:tblGrid>
              <a:tr h="7430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275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16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9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90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86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58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55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TE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9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3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786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30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1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6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447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TE per 1000 LF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3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9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8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7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.7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Arial"/>
              </a:rPr>
              <a:t>LEGAL FRAME FOR SCIENCE AND TECHNOLOGY IN R.MACEDONIA</a:t>
            </a:r>
            <a:endParaRPr b="0" lang="en-US" sz="40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280" y="1904760"/>
            <a:ext cx="907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2b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w for Scientific and Research Activ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Internal documents for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upporting of young scient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Financing of scientific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c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Supporting of publis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4c2b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w for Macedonian Academy of Sciences and Ar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4c2b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w on Encouraging and Supporting the Technological Develop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FINANCIAL ASPECT OF SCIENCE AND TECHNOLOGY IN R.MACEDONIA</a:t>
            </a:r>
            <a:endParaRPr b="0" lang="en-US" sz="38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dget contribution in R&amp;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2631960"/>
            <a:ext cx="8402760" cy="3694680"/>
            <a:chOff x="380880" y="2631960"/>
            <a:chExt cx="8402760" cy="3694680"/>
          </a:xfrm>
        </p:grpSpPr>
        <p:grpSp>
          <p:nvGrpSpPr>
            <p:cNvPr id="109" name=""/>
            <p:cNvGrpSpPr/>
            <p:nvPr/>
          </p:nvGrpSpPr>
          <p:grpSpPr>
            <a:xfrm>
              <a:off x="399960" y="4917960"/>
              <a:ext cx="8383680" cy="398520"/>
              <a:chOff x="399960" y="4917960"/>
              <a:chExt cx="8383680" cy="398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211880" y="4917960"/>
                <a:ext cx="157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0.44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91800" y="4917960"/>
                <a:ext cx="2619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5.2 million EUR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495880" y="4917960"/>
                <a:ext cx="2095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1.18 billion EUR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9960" y="4917960"/>
                <a:ext cx="2095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82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2002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80880" y="2631960"/>
              <a:ext cx="8402760" cy="3694680"/>
              <a:chOff x="380880" y="2631960"/>
              <a:chExt cx="8402760" cy="36946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80880" y="2631960"/>
                <a:ext cx="8402760" cy="3692520"/>
                <a:chOff x="380880" y="2631960"/>
                <a:chExt cx="8402760" cy="3692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99960" y="6324480"/>
                  <a:ext cx="8383680" cy="0"/>
                </a:xfrm>
                <a:prstGeom prst="line">
                  <a:avLst/>
                </a:prstGeom>
                <a:ln cap="sq"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82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380880" y="2631960"/>
                  <a:ext cx="8402760" cy="3692520"/>
                  <a:chOff x="380880" y="2631960"/>
                  <a:chExt cx="8402760" cy="369252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399960" y="3112920"/>
                    <a:ext cx="8383680" cy="1802880"/>
                    <a:chOff x="399960" y="3112920"/>
                    <a:chExt cx="8383680" cy="1802880"/>
                  </a:xfrm>
                </p:grpSpPr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99960" y="3604320"/>
                      <a:ext cx="8383680" cy="1311480"/>
                      <a:chOff x="399960" y="3604320"/>
                      <a:chExt cx="8383680" cy="1311480"/>
                    </a:xfrm>
                  </p:grpSpPr>
                  <p:grpSp>
                    <p:nvGrpSpPr>
                      <p:cNvPr id="120" name=""/>
                      <p:cNvGrpSpPr/>
                      <p:nvPr/>
                    </p:nvGrpSpPr>
                    <p:grpSpPr>
                      <a:xfrm>
                        <a:off x="399960" y="4061160"/>
                        <a:ext cx="8383680" cy="854640"/>
                        <a:chOff x="399960" y="4061160"/>
                        <a:chExt cx="8383680" cy="854640"/>
                      </a:xfrm>
                    </p:grpSpPr>
                    <p:grpSp>
                      <p:nvGrpSpPr>
                        <p:cNvPr id="121" name=""/>
                        <p:cNvGrpSpPr/>
                        <p:nvPr/>
                      </p:nvGrpSpPr>
                      <p:grpSpPr>
                        <a:xfrm>
                          <a:off x="399960" y="4518000"/>
                          <a:ext cx="8383680" cy="397800"/>
                          <a:chOff x="399960" y="4518000"/>
                          <a:chExt cx="8383680" cy="397800"/>
                        </a:xfrm>
                      </p:grpSpPr>
                      <p:sp>
                        <p:nvSpPr>
                          <p:cNvPr id="122" name=""/>
                          <p:cNvSpPr/>
                          <p:nvPr/>
                        </p:nvSpPr>
                        <p:spPr>
                          <a:xfrm>
                            <a:off x="7211880" y="4518000"/>
                            <a:ext cx="157176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0.58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"/>
                          <p:cNvSpPr/>
                          <p:nvPr/>
                        </p:nvSpPr>
                        <p:spPr>
                          <a:xfrm>
                            <a:off x="4591800" y="4518000"/>
                            <a:ext cx="261972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5.2 million EUR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"/>
                          <p:cNvSpPr/>
                          <p:nvPr/>
                        </p:nvSpPr>
                        <p:spPr>
                          <a:xfrm>
                            <a:off x="2495880" y="4518000"/>
                            <a:ext cx="209592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910 million EUR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99960" y="4518000"/>
                            <a:ext cx="2095920" cy="397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18000" rIns="18000" tIns="82800" bIns="10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000" spc="-1" strike="noStrike">
                                <a:solidFill>
                                  <a:srgbClr val="333333"/>
                                </a:solidFill>
                                <a:latin typeface="Arial"/>
                              </a:rPr>
                              <a:t>2001</a:t>
                            </a:r>
                            <a:endParaRPr b="0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7211880" y="4061160"/>
                          <a:ext cx="157176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0.39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4591800" y="4061160"/>
                          <a:ext cx="261972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4.3 million EUR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495880" y="4061160"/>
                          <a:ext cx="209592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1.05 billion EUR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399960" y="4061160"/>
                          <a:ext cx="2095920" cy="39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000" rIns="18000" tIns="82800" bIns="10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333333"/>
                              </a:solidFill>
                              <a:latin typeface="Arial"/>
                            </a:rPr>
                            <a:t>2000</a:t>
                          </a:r>
                          <a:endParaRPr b="0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7211880" y="3604320"/>
                        <a:ext cx="157176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0.94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4591800" y="3604320"/>
                        <a:ext cx="261972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6.1 million EUR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2495880" y="3604320"/>
                        <a:ext cx="209592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690 million EUR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399960" y="3604320"/>
                        <a:ext cx="2095920" cy="397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000" rIns="18000" tIns="82800" bIns="10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333333"/>
                            </a:solidFill>
                            <a:latin typeface="Arial"/>
                          </a:rPr>
                          <a:t>1999</a:t>
                        </a:r>
                        <a:endParaRPr b="0" lang="en-US" sz="2000" spc="-1" strike="noStrike">
                          <a:solidFill>
                            <a:srgbClr val="333333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7211880" y="3112920"/>
                      <a:ext cx="157176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6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591800" y="3112920"/>
                      <a:ext cx="261972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2495880" y="3112920"/>
                      <a:ext cx="209592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30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399960" y="3112920"/>
                      <a:ext cx="2095920" cy="39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399960" y="2631960"/>
                    <a:ext cx="8383680" cy="492120"/>
                    <a:chOff x="399960" y="2631960"/>
                    <a:chExt cx="8383680" cy="49212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211880" y="2631960"/>
                      <a:ext cx="157176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591800" y="2631960"/>
                      <a:ext cx="261972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 FOR SCIENC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495880" y="2631960"/>
                      <a:ext cx="209592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399960" y="2631960"/>
                      <a:ext cx="2095920" cy="492120"/>
                    </a:xfrm>
                    <a:prstGeom prst="rect">
                      <a:avLst/>
                    </a:prstGeom>
                    <a:noFill/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399960" y="2631960"/>
                      <a:ext cx="8383680" cy="0"/>
                    </a:xfrm>
                    <a:prstGeom prst="line">
                      <a:avLst/>
                    </a:prstGeom>
                    <a:ln w="2232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80880" y="5398920"/>
                    <a:ext cx="8383680" cy="398520"/>
                    <a:chOff x="380880" y="5398920"/>
                    <a:chExt cx="8383680" cy="39852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192800" y="5398920"/>
                      <a:ext cx="157176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.5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572720" y="5398920"/>
                      <a:ext cx="26197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0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476800" y="539892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15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380880" y="539892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399960" y="3119400"/>
                    <a:ext cx="8383680" cy="3205080"/>
                    <a:chOff x="399960" y="3119400"/>
                    <a:chExt cx="8383680" cy="320508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99960" y="354240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99960" y="403380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99960" y="449136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99960" y="494856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99960" y="5406120"/>
                      <a:ext cx="83829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99960" y="3119400"/>
                      <a:ext cx="0" cy="3205080"/>
                    </a:xfrm>
                    <a:prstGeom prst="line">
                      <a:avLst/>
                    </a:prstGeom>
                    <a:ln cap="sq" w="284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495520" y="3119400"/>
                      <a:ext cx="0" cy="320508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593240" y="3119400"/>
                      <a:ext cx="0" cy="320508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211160" y="3119400"/>
                      <a:ext cx="0" cy="320508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8782920" y="3119400"/>
                      <a:ext cx="0" cy="3205080"/>
                    </a:xfrm>
                    <a:prstGeom prst="line">
                      <a:avLst/>
                    </a:prstGeom>
                    <a:ln cap="sq" w="284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400320" y="5886720"/>
                      <a:ext cx="8383320" cy="0"/>
                    </a:xfrm>
                    <a:prstGeom prst="line">
                      <a:avLst/>
                    </a:prstGeom>
                    <a:ln cap="sq"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-82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380880" y="5867280"/>
                    <a:ext cx="8383680" cy="398520"/>
                    <a:chOff x="380880" y="5867280"/>
                    <a:chExt cx="8383680" cy="39852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192800" y="5867280"/>
                      <a:ext cx="157176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572720" y="5867280"/>
                      <a:ext cx="26197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.1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76800" y="586728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23 million EUR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80880" y="5867280"/>
                      <a:ext cx="209592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82800" bIns="10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6" name=""/>
              <p:cNvSpPr/>
              <p:nvPr/>
            </p:nvSpPr>
            <p:spPr>
              <a:xfrm>
                <a:off x="7620840" y="59277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Arial"/>
                  </a:rPr>
                  <a:t>0.55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2b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&amp;D intensity (%) of GDP by sector of perform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228600"/>
            <a:ext cx="899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c2b"/>
                </a:solidFill>
                <a:latin typeface="Arial"/>
              </a:rPr>
              <a:t>FINANCIAL ASPECT OF SCIENCE AND TECHNOLOGY IN R.MACEDONIA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320" y="2814480"/>
            <a:ext cx="8915040" cy="3510000"/>
            <a:chOff x="76320" y="2814480"/>
            <a:chExt cx="8915040" cy="3510000"/>
          </a:xfrm>
        </p:grpSpPr>
        <p:grpSp>
          <p:nvGrpSpPr>
            <p:cNvPr id="170" name=""/>
            <p:cNvGrpSpPr/>
            <p:nvPr/>
          </p:nvGrpSpPr>
          <p:grpSpPr>
            <a:xfrm>
              <a:off x="6599520" y="2814480"/>
              <a:ext cx="593280" cy="3505320"/>
              <a:chOff x="6599520" y="2814480"/>
              <a:chExt cx="593280" cy="3505320"/>
            </a:xfrm>
          </p:grpSpPr>
          <p:sp>
            <p:nvSpPr>
              <p:cNvPr id="171" name=""/>
              <p:cNvSpPr/>
              <p:nvPr/>
            </p:nvSpPr>
            <p:spPr>
              <a:xfrm>
                <a:off x="6599520" y="2814480"/>
                <a:ext cx="59328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99520" y="5510160"/>
                <a:ext cx="59328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99520" y="4792680"/>
                <a:ext cx="59328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6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99520" y="4073400"/>
                <a:ext cx="59328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99520" y="3443400"/>
                <a:ext cx="59328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3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06600" y="2814480"/>
              <a:ext cx="592920" cy="3505320"/>
              <a:chOff x="6006600" y="2814480"/>
              <a:chExt cx="592920" cy="3505320"/>
            </a:xfrm>
          </p:grpSpPr>
          <p:sp>
            <p:nvSpPr>
              <p:cNvPr id="177" name=""/>
              <p:cNvSpPr/>
              <p:nvPr/>
            </p:nvSpPr>
            <p:spPr>
              <a:xfrm>
                <a:off x="6006600" y="2814480"/>
                <a:ext cx="59292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6600" y="5510160"/>
                <a:ext cx="59292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7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06600" y="4792680"/>
                <a:ext cx="59292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600" y="4073400"/>
                <a:ext cx="59292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06600" y="3443400"/>
                <a:ext cx="59292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4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413680" y="2814480"/>
              <a:ext cx="592920" cy="3505320"/>
              <a:chOff x="5413680" y="2814480"/>
              <a:chExt cx="592920" cy="3505320"/>
            </a:xfrm>
          </p:grpSpPr>
          <p:sp>
            <p:nvSpPr>
              <p:cNvPr id="183" name=""/>
              <p:cNvSpPr/>
              <p:nvPr/>
            </p:nvSpPr>
            <p:spPr>
              <a:xfrm>
                <a:off x="5413680" y="2814480"/>
                <a:ext cx="59292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1999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13680" y="5510160"/>
                <a:ext cx="59292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3680" y="4792680"/>
                <a:ext cx="59292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6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3680" y="4073400"/>
                <a:ext cx="59292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13680" y="3443400"/>
                <a:ext cx="59292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3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820760" y="2814480"/>
              <a:ext cx="592920" cy="3505320"/>
              <a:chOff x="4820760" y="2814480"/>
              <a:chExt cx="592920" cy="3505320"/>
            </a:xfrm>
          </p:grpSpPr>
          <p:sp>
            <p:nvSpPr>
              <p:cNvPr id="189" name=""/>
              <p:cNvSpPr/>
              <p:nvPr/>
            </p:nvSpPr>
            <p:spPr>
              <a:xfrm>
                <a:off x="4820760" y="2814480"/>
                <a:ext cx="59292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1998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20760" y="5510160"/>
                <a:ext cx="59292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0760" y="4792680"/>
                <a:ext cx="59292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0760" y="4073400"/>
                <a:ext cx="59292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20760" y="3443400"/>
                <a:ext cx="59292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4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6320" y="2814480"/>
              <a:ext cx="4744440" cy="3505320"/>
              <a:chOff x="76320" y="2814480"/>
              <a:chExt cx="4744440" cy="3505320"/>
            </a:xfrm>
          </p:grpSpPr>
          <p:sp>
            <p:nvSpPr>
              <p:cNvPr id="195" name=""/>
              <p:cNvSpPr/>
              <p:nvPr/>
            </p:nvSpPr>
            <p:spPr>
              <a:xfrm>
                <a:off x="76320" y="2814480"/>
                <a:ext cx="474444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Arial"/>
                  </a:rPr>
                  <a:t>TYPE OF EXPENDITURE</a:t>
                </a: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20" y="5510160"/>
                <a:ext cx="4744440" cy="80964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HERD (Expenditure on R&amp;D in the Higher 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Education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320" y="4792680"/>
                <a:ext cx="474444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GOVERD (Government intramural expenditure on 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R&amp;D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320" y="4073400"/>
                <a:ext cx="4744440" cy="7192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BERD (Expenditure on R&amp;D in the Business sector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 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320" y="3443400"/>
                <a:ext cx="4744440" cy="630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GERD (Gross domestic expenditure on R&amp;D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/GDP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6320" y="407340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20" y="479268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320" y="551016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320" y="3443400"/>
              <a:ext cx="711648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320" y="2814480"/>
              <a:ext cx="4744440" cy="0"/>
            </a:xfrm>
            <a:prstGeom prst="line">
              <a:avLst/>
            </a:prstGeom>
            <a:ln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54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192800" y="2814480"/>
              <a:ext cx="599040" cy="3510000"/>
              <a:chOff x="7192800" y="2814480"/>
              <a:chExt cx="599040" cy="3510000"/>
            </a:xfrm>
          </p:grpSpPr>
          <p:sp>
            <p:nvSpPr>
              <p:cNvPr id="206" name=""/>
              <p:cNvSpPr/>
              <p:nvPr/>
            </p:nvSpPr>
            <p:spPr>
              <a:xfrm>
                <a:off x="7192800" y="2814480"/>
                <a:ext cx="59904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92800" y="4795920"/>
                <a:ext cx="59904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92800" y="5513400"/>
                <a:ext cx="599040" cy="8110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92800" y="4064040"/>
                <a:ext cx="599040" cy="738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92800" y="3443400"/>
                <a:ext cx="599040" cy="6253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7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791840" y="2814480"/>
              <a:ext cx="598680" cy="3510000"/>
              <a:chOff x="7791840" y="2814480"/>
              <a:chExt cx="598680" cy="3510000"/>
            </a:xfrm>
          </p:grpSpPr>
          <p:sp>
            <p:nvSpPr>
              <p:cNvPr id="212" name=""/>
              <p:cNvSpPr/>
              <p:nvPr/>
            </p:nvSpPr>
            <p:spPr>
              <a:xfrm>
                <a:off x="7791840" y="2814480"/>
                <a:ext cx="59868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91840" y="4795920"/>
                <a:ext cx="59868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91840" y="5513400"/>
                <a:ext cx="598680" cy="8110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8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91840" y="4064040"/>
                <a:ext cx="598680" cy="738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91840" y="3443400"/>
                <a:ext cx="598680" cy="6253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8392320" y="2814480"/>
              <a:ext cx="599040" cy="3510000"/>
              <a:chOff x="8392320" y="2814480"/>
              <a:chExt cx="599040" cy="3510000"/>
            </a:xfrm>
          </p:grpSpPr>
          <p:sp>
            <p:nvSpPr>
              <p:cNvPr id="218" name=""/>
              <p:cNvSpPr/>
              <p:nvPr/>
            </p:nvSpPr>
            <p:spPr>
              <a:xfrm>
                <a:off x="8392320" y="2814480"/>
                <a:ext cx="599040" cy="6289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200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92320" y="4795920"/>
                <a:ext cx="599040" cy="7174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92320" y="5513400"/>
                <a:ext cx="599040" cy="81108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1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92320" y="4064040"/>
                <a:ext cx="599040" cy="73800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01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92320" y="3443400"/>
                <a:ext cx="599040" cy="625320"/>
              </a:xfrm>
              <a:prstGeom prst="rect">
                <a:avLst/>
              </a:prstGeom>
              <a:noFill/>
              <a:ln w="255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54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0.25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2:29:29Z</dcterms:created>
  <dc:creator>Viktor Stefov</dc:creator>
  <dc:description/>
  <dc:language>en-US</dc:language>
  <cp:lastModifiedBy>Viktor Stefov</cp:lastModifiedBy>
  <dcterms:modified xsi:type="dcterms:W3CDTF">2006-09-24T20:46:33Z</dcterms:modified>
  <cp:revision>112</cp:revision>
  <dc:subject/>
  <dc:title>SCIENCE AND TECHNOLOGY  IN MACEDONIA</dc:title>
</cp:coreProperties>
</file>