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9F5-5EA1-4925-8FA6-01ECEB32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127-5E53-459C-A26D-E0C5129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1C3-A796-4973-A70E-D0388E3B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59C-6AED-45C1-8A08-EEA7DB4E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1FF-62A9-4F40-AAD0-A1151E0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0C4-F712-4902-BDBA-BE60CC00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C11-5521-4CF2-9D35-5E6AF96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C6A-77D2-4506-95E6-6FD03DEE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126-F054-424B-B689-90CB9AB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7F5-5D72-4D22-B8A3-5741786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4A5-D470-42D4-BA70-4D59F02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DF1-A7E2-4567-ACD4-B1B3F00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6EEC-B2BC-4930-A706-2E95C3655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kutlaca@labtel.imp.bg.ac.yu" TargetMode="External"/><Relationship Id="rId2" Type="http://schemas.openxmlformats.org/officeDocument/2006/relationships/hyperlink" Target="mailto:kutlaca@famns.edu.yu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3166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&amp;T SYSTEM IN SERBIA: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ETWEEN SURVIVAL AND RESTRUCTU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968640"/>
            <a:ext cx="8640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Prof </a:t>
            </a:r>
            <a:r>
              <a:rPr b="1" lang="sl-SI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Đ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uro KUTLA</a:t>
            </a:r>
            <a:r>
              <a:rPr b="1" lang="sl-SI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Science and Technology Policy Research Centre 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of the </a:t>
            </a: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Mihajlo Pupin</a:t>
            </a:r>
            <a:r>
              <a:rPr b="0" lang="en-GB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”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11000 Belgrade, Volgina 15, Serbia; Tel/Fax:+381(0)11 2774-45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E-mail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dkutlaca@labtel.imp.bg.ac.yu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FaM – </a:t>
            </a:r>
            <a:r>
              <a:rPr b="1" lang="en-US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Faculty o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21000 Novi Sad, Vase Stajića 6, Serbia; Tel: +381(0)21 451863; +381(0)21 451671/104 Fax: +381(0)21 526254: e-mail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kutlaca@famns.edu.yu</a:t>
            </a:r>
            <a:r>
              <a:rPr b="0" lang="en-GB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1000" y="98280"/>
            <a:ext cx="6500880" cy="671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66B-57C6-48D9-8991-6F60BB5C07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00" y="1816200"/>
          <a:ext cx="8424720" cy="291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16200"/>
                    <a:ext cx="842472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3A5-9940-49D1-B389-97613B0C2C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Outputs of R&amp;D system in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26920" y="836640"/>
          <a:ext cx="75614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75614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899-1D49-47FF-AB2A-0F25C8E6CB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59116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R&amp;D organization is alowed to perform, along with R&amp;D, other acitivities directed to comercialization of R&amp;D results, under condition that this activites will not imperil quality of R&amp;D work [Science Law – 2005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5640" y="836640"/>
          <a:ext cx="777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77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476360" y="1159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Outputs of R&amp;D system in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43E-A04D-4FAF-B6D6-D64901AA22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0840" y="401760"/>
            <a:ext cx="8843760" cy="585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2349360"/>
            <a:ext cx="4859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arson Correla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–  0.2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g. (1-tailed)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0.1427563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054-8594-4214-8171-DEC2A39EB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6920" cy="822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197000"/>
            <a:ext cx="633744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indings – 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&amp;D system practically has no contributions to economic development of Serbi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&amp;D system exists independently from needs and necessities of economy in Serbia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F43-DDA1-4D22-8FB3-1382E5D142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6920" cy="82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422280"/>
            <a:ext cx="835344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Findings – I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mber of R&amp;D organizations has decreased from late 80’s until 20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66663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Number of R&amp;D organizations in BES permanently less than number of independent (govt.) insti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b9f05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9f05"/>
                </a:solidFill>
                <a:latin typeface="Times New Roman"/>
              </a:rPr>
              <a:t>Income from R&amp;D activities has decreased – in 2004 this share is only 21,59% of R&amp;D organizations’ total inc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tal number of employees in R&amp;D sector has decrease until 2000. Since than, this number is increasing every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F47-A366-4359-BCF4-8228FA1824F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534960"/>
            <a:ext cx="856908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ategic Group for Innovation – Govt. of Serbia – est. 11.11.2005 as “triple helix”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Go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R&amp;D o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Y FOR INNO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SERBIA (in process …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ECORYS, MoE, MoSEP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287-A22D-4835-BE24-2E26E7426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260280"/>
            <a:ext cx="751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&amp;T and innovation policy in Serb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w far it is from the best practice mod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6720" y="1397160"/>
          <a:ext cx="8351640" cy="4911480"/>
        </p:xfrm>
        <a:graphic>
          <a:graphicData uri="http://schemas.openxmlformats.org/drawingml/2006/table">
            <a:tbl>
              <a:tblPr/>
              <a:tblGrid>
                <a:gridCol w="4178160"/>
                <a:gridCol w="4173480"/>
              </a:tblGrid>
              <a:tr h="24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Human Resources (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Old 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NIS – what is thi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No sufficient capa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EU membe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National Investment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eap outsourcing !!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”Wait and See”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 change pleas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Ment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353-677D-4728-A5D8-11AE505518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5160" y="549360"/>
            <a:ext cx="51800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88840" y="2584440"/>
            <a:ext cx="1473480" cy="1397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58280" y="2806560"/>
            <a:ext cx="1485720" cy="14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3C2-AEFA-42F2-96A1-4C29BB5CB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333360"/>
            <a:ext cx="676908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cience and innovation in Serbia: country perspectives 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Key challenges of science and innovation policies in Serbian’ economy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&amp;T and innovation policy in Serbia: how far it is from the best practice models?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2F5-DC0D-467C-B78D-5E4140EC60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990720"/>
            <a:ext cx="619308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1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Science and innovation in Serbia: country perspectives</a:t>
            </a: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99E-BC80-4698-BDF2-F383C7C4C3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115920"/>
            <a:ext cx="8572320" cy="616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75640" y="3860640"/>
            <a:ext cx="28908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75640" y="4581360"/>
            <a:ext cx="28908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DDC-B224-4B61-BF18-FD9A3B7A5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4200" y="333360"/>
            <a:ext cx="8715600" cy="58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747280" y="4076640"/>
            <a:ext cx="28872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B1A-90C2-4D4D-BD53-8AE56136D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836640"/>
            <a:ext cx="698508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Key challenges of science and innovation policies in Serbian’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6005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B82-6521-45EF-B94F-299F850C7C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79400"/>
            <a:ext cx="8229600" cy="603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35520" y="2924280"/>
            <a:ext cx="431640" cy="3871800"/>
          </a:xfrm>
          <a:prstGeom prst="ellipse">
            <a:avLst/>
          </a:prstGeom>
          <a:solidFill>
            <a:srgbClr val="ff0066">
              <a:alpha val="1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03320"/>
            <a:ext cx="871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bsorptive Capa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gregate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4882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Dj.Kutlaca, after S.Rados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675-6586-4A56-8FC0-2E9E802CE3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603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3500280"/>
            <a:ext cx="432000" cy="3313440"/>
          </a:xfrm>
          <a:prstGeom prst="ellipse">
            <a:avLst/>
          </a:prstGeom>
          <a:solidFill>
            <a:srgbClr val="ff0066">
              <a:alpha val="1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03320"/>
            <a:ext cx="871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R&amp;D sup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Agregate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64753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Dj.Kutlaca, after S.Radose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DBF-90A3-4112-9DDF-CDBEE6F79C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42920" y="620640"/>
            <a:ext cx="698508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en-US" sz="56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57"/>
                </a:solidFill>
                <a:latin typeface="Times New Roman"/>
              </a:rPr>
              <a:t>S&amp;T and innovation policy in Serbia: how far it is from the best practice 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57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r>
              <a:rPr b="1" lang="en-US" sz="60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F3C-F317-462B-83DC-999DD63B44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18:08:33Z</dcterms:created>
  <dc:creator>MNT</dc:creator>
  <dc:description/>
  <dc:language>en-US</dc:language>
  <cp:lastModifiedBy>IMP-CIRNT750f</cp:lastModifiedBy>
  <dcterms:modified xsi:type="dcterms:W3CDTF">2006-09-27T15:11:17Z</dcterms:modified>
  <cp:revision>125</cp:revision>
  <dc:subject/>
  <dc:title>PowerPoint Presentation</dc:title>
</cp:coreProperties>
</file>