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EDD5-92AC-4D1C-8A71-C4811B219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904760" y="3982680"/>
            <a:ext cx="60195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BBFC-1CEA-436B-A7BD-5B5645C43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24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04760" y="39826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240" y="39826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43B0-7E13-426F-BFC0-D69B7EF6A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39840" y="8380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4920" y="8380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904760" y="39826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39840" y="39826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4920" y="3982680"/>
            <a:ext cx="19378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76D3-C6E9-4C9B-B66D-4A5D5C436A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E2AA-4909-4A39-80CD-F3CC9DF2D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0A10-3A90-4004-85D2-61CEE99F7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2937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240" y="838080"/>
            <a:ext cx="2937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FB43-B5F8-46D8-BA15-9FD64CEF2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EBBF-0ECB-4390-BBF9-D641158D9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438280" y="75960"/>
            <a:ext cx="65534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6683-BB14-457C-B56D-B77D6F8FB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240" y="838080"/>
            <a:ext cx="2937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904760" y="39826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B38C-FEC7-429D-8899-134A8195C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2937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24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240" y="39826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9D22-32B0-4CE3-83B4-2E13D2909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240" y="838080"/>
            <a:ext cx="29372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04760" y="3982680"/>
            <a:ext cx="60195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0AF8-B053-4CC0-B091-4BCA4B1E4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82440"/>
            <a:ext cx="9144000" cy="702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15328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8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C61F-FC9E-4CF8-84F3-1A646C57826C}" type="slidenum">
              <a:rPr b="0" lang="en-US" sz="1400" spc="-1" strike="noStrike">
                <a:solidFill>
                  <a:srgbClr val="ff8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sirin.elci@focusinnovation.ne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5120" y="236196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Turkish S&amp;T </a:t>
            </a: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P</a:t>
            </a: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olicy </a:t>
            </a: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b</a:t>
            </a: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etween </a:t>
            </a: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F</a:t>
            </a: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ocus on </a:t>
            </a: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R</a:t>
            </a: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esearch and </a:t>
            </a: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I</a:t>
            </a:r>
            <a:r>
              <a:rPr b="1" lang="en-GB" sz="2400" spc="-1" strike="noStrike">
                <a:solidFill>
                  <a:srgbClr val="ff8000"/>
                </a:solidFill>
                <a:latin typeface="Verdana"/>
              </a:rPr>
              <a:t>nnovation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Sirin El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宋体"/>
              </a:rPr>
              <a:t>eptember 2006, Ljubljana, Sloven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Funding of innovation 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s for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financing R&amp;D and innovation projects of enterprises (grants and loa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funds doubled since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ax incentives for R&amp;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x exemption accounting to 40 percent of R&amp;D expenditures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exemptions from corporate and personnel income taxes for R&amp;D activities in technopark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Need to focus seed and early stage funding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1558-9B75-4E29-AA49-47248D2644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ff8000"/>
                </a:solidFill>
                <a:latin typeface="Verdana"/>
              </a:rPr>
              <a:t>ccess to finance</a:t>
            </a: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 by</a:t>
            </a:r>
            <a:br>
              <a:rPr sz="2000"/>
            </a:b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8000"/>
                </a:solidFill>
                <a:latin typeface="Verdana"/>
              </a:rPr>
              <a:t>innovative start-ups</a:t>
            </a: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he level of venture capital investments is very low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Only 3 registered VC companies and around a dozen off-shore PE fu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fund size for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V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ab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USD 400 millio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annual investments are not more than USD 100 millio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VCCs and PE fund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fer to invest in expansion stage and do not target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innovative o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-tech industries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s for supporting innovative start-ups are almost non-existen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Only a few visible business angels activities –no B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802F-E6DC-4CBF-A1F2-B74A26F2DF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Supply side issues 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stability of the macro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nvironment until rec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nsuffic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DI leve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mature pension funds and insurance markets that make fund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ising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l size and limited liquidity of the capital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sufficient exit mech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egislative barri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ack of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licies to support development of the venture capital indus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91D1-9822-4E0F-A7E2-0D6A7C44A4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Demand side issues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tural and managerial pract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Family-owned companies with weak corporate governance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Reluctance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hare ideas, ownership and control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nformal econ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w levels of awareness of venture capital invest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ited capabilities of firms and entrepreneurs to transform their ideas into business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0D5F-9B99-43FA-BCE6-6452A77B36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Transformation of Research </a:t>
            </a:r>
            <a:br>
              <a:rPr sz="2000"/>
            </a:b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into Innovation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R&amp;D commercialisation at universities is of particular importance for Turkey si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universiti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rcent of the country’s R&amp;D sp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rcent of research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evel of scientific output is high but not transformed i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nov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rld ranking</a:t>
            </a:r>
            <a:r>
              <a:rPr b="0" lang="tr-TR" sz="16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number of publications by scientists</a:t>
            </a:r>
            <a:r>
              <a:rPr b="0" lang="tr-T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d from 41st to</a:t>
            </a:r>
            <a:r>
              <a:rPr b="0" lang="tr-TR" sz="1600" spc="-1" strike="noStrike">
                <a:solidFill>
                  <a:srgbClr val="000000"/>
                </a:solidFill>
                <a:latin typeface="Verdana"/>
              </a:rPr>
              <a:t> 19th in 15 yea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1C76-DCE1-48B4-BD8F-F31F6FC97C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Transformation of Research </a:t>
            </a:r>
            <a:br>
              <a:rPr sz="2000"/>
            </a:b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into Innovation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Regulatory barri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nsufficient incentives, such as academic promotion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k of specialized institutions and intermediaries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k of early stage financing and other means to finance start up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(for R&amp;D commerci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869B-521A-4098-B4B3-71A8089A7A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Recommendations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Develo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ng options from the early to the later stages of innovative businesses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courage companies to move to formal sector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Benchmark and revis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C regulations according to international best pract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Desig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venture capital initiatives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o help development of the indus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Provide tax and other incentives to stimulate private investments in innovative busin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Encourage establishment of B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F908-A6BC-491D-988E-6ADF8A42C6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Recommendations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mprove the regulatory environment to stimulate R&amp;D commercialisation and creation of university spin-of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Develop mechanisms to stimulate establishment of technology transfer offices at univers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Provide 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ed and start-up funding for academic entrepreneurial activities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While designing the measures consider regional disparities and stimulate regional policy-making and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rain, educate and raise aware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F372-917E-4E2A-8BBE-BD4A449413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To conclude...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urkish Government took an important step by increasing the investments in research and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build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effective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S&amp;T governance syst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Expectations a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ha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recent decisions taken for the design o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novation strategies and support mechanisms are pursued with equal enthusiasm and dedicatio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me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y an integrated approach for research and innovatio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 as well as by the integration of innovation in other policy are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A87D-F8DE-4F8A-B4C8-E55E449367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8000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sirin.elci@focusinnovation.net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B552-2CA2-4A9D-98AC-E108FB40D0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Outline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urkish research policy and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nnovation policy and challe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Creation of innovative fi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R&amp;D commercial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C3FC-AF7F-4206-8EE7-324E141629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Research policy-making </a:t>
            </a:r>
            <a:br>
              <a:rPr sz="2000"/>
            </a:br>
            <a:r>
              <a:rPr b="0" lang="tr-TR" sz="2000" spc="-1" strike="noStrike">
                <a:solidFill>
                  <a:srgbClr val="ff8000"/>
                </a:solidFill>
                <a:latin typeface="Verdana"/>
              </a:rPr>
              <a:t>and implementation</a:t>
            </a:r>
            <a:endParaRPr b="0" lang="en-US" sz="20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esearch policy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dat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k to early sixties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an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form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n integral part of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national development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l-developed institutional framework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for policy-making and implemet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Direct involvement of the Government through the Supreme Council of Science and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icy measures for funding research and development 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FE14-3CC3-417A-9CDC-42B92241D9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R&amp;D performance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GER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ains at a low level (0.67 percent in 2004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gher education sector performs a significant proportion of total R&amp;D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(67.9 percent in 2004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iness sector accounts only for 24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.2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percent of total R&amp;D spe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08A3-78AB-4EF8-BBE4-970BE2F0F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Big steps forward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High leve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it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me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rais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R&amp;D investment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s –2010 targe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hiev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n R&amp;D intensity of 2 percent with the private sector contributing to half of the total amou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increase the number of full-time equivalent researchers to 40,0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crease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ublic funds for R&amp;D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otal amount of funds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in 2005 and 2006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approx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€1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.5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llion as opposed to €1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llion allocated for five years between 2000 and 20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urkish Research Area” (TARAL) as a platform for the private and public sectors and non-governmental organisations to strategically focus and collaborate for R&amp;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D91F-59AD-4BC6-8A30-BC272CCC5E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Research alone is not sufficient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Average growth rate over the last four years was the second highest since 1950 (~8 percent) but economic growth did not reduce unem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university graduates are unemploy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ow level of investments in</a:t>
            </a:r>
            <a:r>
              <a:rPr b="0" i="1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knowledge factors (innovation, skills and technology)</a:t>
            </a:r>
            <a:r>
              <a:rPr b="0" i="1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-drivers for productivity and growth which produces jo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arge regional dispar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0F9B-0803-48B2-B5CC-C749FE0ABA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Need to invest in innovation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Weak innovation performance and less politic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emphasis on innovation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until very recentl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in Sept. 2006, steps to design national innovation strategies and an action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Verdana"/>
              </a:rPr>
              <a:t>European Innovation Scoreboard-The 2005 Summary Innovation Index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Verdana"/>
              </a:rPr>
              <a:t>EC, 200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8000" y="3573360"/>
            <a:ext cx="5977080" cy="268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C0EB-1762-43D1-8EAF-8441C6E87B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Main issues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Limited number and diversity of innovation support meas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or availability of appropriate financing options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 for innovative compa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Underdeveloped venture capital and business angels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A lack of early stage financing and other private means to finance innovative start-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C076-342F-480C-827F-0C498A346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8000"/>
                </a:solidFill>
                <a:latin typeface="Verdana"/>
              </a:rPr>
              <a:t>Main issues</a:t>
            </a:r>
            <a:endParaRPr b="0" lang="en-US" sz="2400" spc="-1" strike="noStrike">
              <a:solidFill>
                <a:srgbClr val="ff8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838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Weak regulatory and incentive regime that does not sufficiently encourage scientists and universities to transform applied knowledge into innovation and high business develop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Absence of region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and sector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policies and systems of inno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126D-1448-4B58-95D2-2BA020714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2:12:44Z</dcterms:created>
  <dc:creator>Sirin ELCI</dc:creator>
  <dc:description/>
  <dc:language>en-US</dc:language>
  <cp:lastModifiedBy>Sirin ELCI</cp:lastModifiedBy>
  <dcterms:modified xsi:type="dcterms:W3CDTF">2006-09-28T04:48:52Z</dcterms:modified>
  <cp:revision>258</cp:revision>
  <dc:subject/>
  <dc:title>Slide 1</dc:title>
</cp:coreProperties>
</file>