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7EA-A905-4051-BB42-B092D375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ED7-B7F9-4D44-9130-79A5A03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A96-8F45-41E8-B87A-804A2C71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662-07F5-4134-9F7E-599C9D98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73C-AB13-44F1-AA08-769A8049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B172-D89B-4CF9-A5A6-3378CA33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20D1-1723-4293-B2F2-35C62FF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ED9E-7456-4F43-81AF-2FF63FF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0F3B-C6D2-46D3-B1FF-DF15CF5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F5D-4F09-4881-BCA8-112DC4C5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4C7-C718-4529-9D34-0D2D674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CE5-1E0C-49BC-9810-C0AD5F9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614-E82B-4804-AF59-C5AEAEC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7A7-DF4C-4E44-898C-8D8A348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ABA-C354-48E2-8A61-84C8A056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6264-BA5D-47A8-B43C-7CC44317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558-6044-4181-BE9D-A187A075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6E3-BF4B-4500-981C-01BA8D3A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1AD-EEB5-4607-B20A-FD06B4C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6BE-99D4-48BD-9868-AB3D9B91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2D9-FBEC-443F-9D23-BF1FE9F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A89-E05C-4E70-8BEF-99F495B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CE8-037B-482C-9D7C-C94D340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E01-B33F-48BC-9E60-98FEA6F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423-1B0D-4212-A5E6-24AC97ADF9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490B-6155-449F-A85A-219C77097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32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zelle"/>
              </a:rPr>
              <a:t>University Of Montenegr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914400"/>
            <a:ext cx="8610480" cy="59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Times New Roman"/>
              </a:rPr>
              <a:t>State Of The Art And The Strategy 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D&amp;I Development In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of.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ra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uk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čević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Dean of Faculty of Metallurgy and Technolog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University of Montenegro - Podgo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6104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munication and information syste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development as one of the interest of Montene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orting of the national infrastructure creation as a base for the involvment into European “Grid-based e-science” infrastructur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cessary decision and action (at the level of State and University) for efficient interinstitutional, international and interdisciplinar using of infrastruc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Adequate executive schem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role of national structures (NREN – National Research and Educational Networ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inancing of research ICT infrastruc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Using of research network GEANT and upgrading of existing electronic networks, data base acces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us of Library – Inform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professional assiste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data base access possib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w interconnection of the several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BISS bibliographical system and series and COBIB mutual catalog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6868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lanning and coordination of the activities regarding the infrastructural interconnection of several University Librari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upporting of the common communication capacities for the operation of central sevic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nagement of COBIB bas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fessional assistency to the libraries (PC equipment, installing and maintenanc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rganizing of access to the other informative services and bases under the conition defined in consortiu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90720"/>
            <a:ext cx="617220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Human potential in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75248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ain drain, brain “was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mber of scientist low (606 scientists at the University, 351 Ph.D. and 255 M.S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cial sciences and humanities (almost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ering and technology (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cal sciences (10.3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ricultural sciences (6.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n-University institutions – 699 researchers; 204 Ph.D. and 495 M.S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Instruments of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than 80% ar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stry budget supports SR projects in var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stry budget pays salaries of professors at universities and various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990720"/>
            <a:ext cx="7924680" cy="1066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rnational cooperation in R&amp;D and participation in EU fund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28600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% of the total R&amp;D budget is dedicated to international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2004/5 participated in two FP6 projects (SSA), 2 UNESCO, 12 other multilateral projects (UNDP,CERN,NATO,IAEA,CO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-ERA.net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REN 2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GRID 2 (FP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A West Bal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914400"/>
            <a:ext cx="7924680" cy="838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b7e7ff"/>
                </a:solidFill>
                <a:uFillTx/>
                <a:latin typeface="Times New Roman"/>
              </a:rPr>
              <a:t>N</a:t>
            </a: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ational Scientific Research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362320"/>
            <a:ext cx="69343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6 project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22.182,99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 2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6 project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22.182,99 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lateral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133720"/>
            <a:ext cx="8686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VENI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 technics, others from the different fields) -  18.820,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EE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80,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wit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RY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EDONI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,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protocol not signed 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elik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RANC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– 8.4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219320"/>
            <a:ext cx="7924680" cy="68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7e7ff"/>
                </a:solidFill>
                <a:uFillTx/>
                <a:latin typeface="Times New Roman"/>
              </a:rPr>
              <a:t>Budget for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096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 than 1% of the national budget is alocated for R&amp;D – 669,320.47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€ in 2006 (0.13% of the overall budget, which is 518,912,185.26 €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0.83% in 2001 to 0.30% in 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82224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cc00"/>
                </a:solidFill>
                <a:uFillTx/>
                <a:latin typeface="Times New Roman"/>
              </a:rPr>
              <a:t>The scope and the tasks of scientific and development institution in Montenegro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ore effective cooperation and new network of scientific institution and companies (business sector); new and inovative products and servic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 upgrading of basic (fundamental) knowledg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creasing of the competitiveness of Montenegrin companies and business sector “Made in RD&amp;I sector of Montenegro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cientific and research strategy in Montenegro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lanning of the strategy budget in less than 5 yea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imulation of business sector for investing in RD&amp;I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fiscal politic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90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nowledge-based society in Monteneg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ality or Fi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Knowledge-based society indicator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RD&amp;I budget per capit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researchers per capit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scientific institution with technological development progra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7200" indent="-29052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057320"/>
            <a:ext cx="868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cc00"/>
                </a:solidFill>
                <a:uFillTx/>
                <a:latin typeface="Times New Roman"/>
              </a:rPr>
              <a:t>The scope and the tasks of scientific and development institution in Montenegro</a:t>
            </a:r>
            <a:r>
              <a:rPr b="1" lang="en-US" sz="25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sing of international sources and project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crease funds for RD&amp;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equate legal arrangements in this fie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 only the Role of State but market also in the development of    RD&amp;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nabling the NGO involvment, Private secotr involvment, potential partnership among the State and Private sector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59580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Gazelle"/>
              </a:rPr>
              <a:t>Thank you for your atten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685800"/>
            <a:ext cx="816300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>
                    <a:alpha val="42000"/>
                  </a:srgbClr>
                </a:solidFill>
                <a:latin typeface="Gazelle"/>
              </a:rPr>
              <a:t>UNIVERSITY OF MONTENEGRO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>
                  <a:alpha val="42000"/>
                </a:srgbClr>
              </a:solidFill>
              <a:latin typeface="Gazelle"/>
              <a:ea typeface="Gazelle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5248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899172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235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Knowledge-based society indicator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Percentage of the companies that apply innovative technologi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Percentage of SMEs and private sector involvment in RD&amp;I financin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companies with departments for developmen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Level of high-tech products expor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patents per capit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Number of researchers and scientific publication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Human resources and education efficienc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5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-governmen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01760" indent="-235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868680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Montenegrin real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ervic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Low ICT products selling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Modest social treatment of scien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Scientific institutional network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Montenegrin Academy of Sciences and Ar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University of Montenegr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everal institutes within companie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1157400"/>
            <a:ext cx="89154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 u="sng">
                <a:solidFill>
                  <a:srgbClr val="ffffff"/>
                </a:solidFill>
                <a:uFillTx/>
                <a:latin typeface="Times New Roman"/>
              </a:rPr>
              <a:t>THE ROLE OF THE MODERN UNIVERS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UNIVERS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Science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ducation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Development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echnologic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engag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World example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echnological parks and incubators, institutes and small high-tech compan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5440" y="25146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42840" y="2590920"/>
            <a:ext cx="11430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59092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9144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Real Role Of The University Of Monteneg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-   Several scientific groups with respectable reference lis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he Lack of the scientific strategy – recognazing of more perspective scientific streams and laborator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ffffff"/>
                </a:solidFill>
                <a:latin typeface="Times New Roman"/>
              </a:rPr>
              <a:t>Transforming of education process from reproduction to creativit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86400" y="3683160"/>
            <a:ext cx="127656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0240" y="3797280"/>
            <a:ext cx="1209600" cy="352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3987720"/>
            <a:ext cx="1190520" cy="333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65560" y="3597120"/>
            <a:ext cx="38124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65880" y="3606840"/>
            <a:ext cx="37152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5840" y="3606840"/>
            <a:ext cx="37152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284440" y="3301920"/>
            <a:ext cx="30492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46600" y="328284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03840" y="3282840"/>
            <a:ext cx="31428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0" y="3997440"/>
            <a:ext cx="17240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keholders in new developed compan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8240" y="4416480"/>
            <a:ext cx="1476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ares in compan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2548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685800"/>
          <a:ext cx="8458200" cy="5334120"/>
        </p:xfrm>
        <a:graphic>
          <a:graphicData uri="http://schemas.openxmlformats.org/drawingml/2006/table">
            <a:tbl>
              <a:tblPr/>
              <a:tblGrid>
                <a:gridCol w="2057400"/>
                <a:gridCol w="1752840"/>
                <a:gridCol w="4106880"/>
                <a:gridCol w="541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UL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ducation process organiz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organization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entific work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borato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cent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ministration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T Cent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bra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. 1. Organization of investigation transfer at the University of Montenegro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38280" y="2971800"/>
          <a:ext cx="1752840" cy="60804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arch laborator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>
            <a:off x="6858000" y="3429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009920" y="3429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16256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962520"/>
            <a:ext cx="1724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takeholders in newdeveloped compani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41972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shares in compani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28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Development 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2096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Inovatio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666880"/>
            <a:ext cx="2438640" cy="61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ffffff"/>
                </a:solidFill>
                <a:latin typeface="Times New Roman"/>
              </a:rPr>
              <a:t>Center for technology transf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2057400"/>
            <a:ext cx="1600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usiness techn.inc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8195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819520"/>
            <a:ext cx="83844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30481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3048120"/>
            <a:ext cx="7621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57800" y="990720"/>
            <a:ext cx="19620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7432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990720"/>
          <a:ext cx="643716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990720"/>
                    <a:ext cx="6437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 txBox="1"/>
          <p:nvPr/>
        </p:nvSpPr>
        <p:spPr>
          <a:xfrm>
            <a:off x="5334120" y="2743200"/>
            <a:ext cx="1962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43000"/>
                  </a:srgbClr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43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76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zelle"/>
              </a:rPr>
              <a:t>UNIVERSITY OF MONTENEG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imes New Roman"/>
              </a:rPr>
              <a:t>R&amp;D infrastructure</a:t>
            </a:r>
            <a:r>
              <a:rPr b="1" lang="sr-Latn-CS" sz="2800" spc="-1" strike="noStrike">
                <a:solidFill>
                  <a:srgbClr val="b7e7ff"/>
                </a:solidFill>
                <a:latin typeface="Times New Roman"/>
              </a:rPr>
              <a:t> at the University of Monteneg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2860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isting infrastructure in Montenegro has number of 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 differences in the development of different research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ck of adequate pre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financial standing of research project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ignificant need in print and electronic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16.100 internet hosts per 100.000 habitants and 100 PCs per 1000 habit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6:46:45Z</dcterms:created>
  <dc:creator>kata</dc:creator>
  <dc:description/>
  <dc:language>en-US</dc:language>
  <cp:lastModifiedBy>kata</cp:lastModifiedBy>
  <dcterms:modified xsi:type="dcterms:W3CDTF">2006-09-26T08:37:07Z</dcterms:modified>
  <cp:revision>10</cp:revision>
  <dc:subject/>
  <dc:title>Slide 1</dc:title>
</cp:coreProperties>
</file>