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008-0E32-4D8E-A27F-48E516C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430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ADB-15F3-4D14-80D7-8CC28774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56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998-996A-4FC0-A0EC-BB8F57AB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710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86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430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710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986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86B-E587-46A2-B63A-3FC2EA7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85A-1124-4641-BA48-E44EB4A2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B8D-9D88-410D-B317-72285982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508-D3CC-461B-9AF3-D8997985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F4E-5756-4AD2-BFBA-BBCFDFC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744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9EB-B77D-43F7-9FE1-9870BB2A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F55-4350-47E9-9F5D-6DA8EDD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56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C17-72A3-44E4-B108-FD2B4CE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56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01D-8096-4616-8E07-B669AD2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10628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9EE-4979-40B5-965A-80D058A30623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445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97392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3C8-7028-485E-AF32-7DC2BAC67B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2523960" y="3514680"/>
            <a:ext cx="5867280" cy="81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Republic of Slov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ff"/>
                </a:solidFill>
                <a:latin typeface="Arial"/>
              </a:rPr>
              <a:t>Ministry  of Higher Education, Science and 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0800" cy="101592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6643800" y="6267600"/>
            <a:ext cx="233352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4720" y="2247840"/>
            <a:ext cx="82789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R&amp;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Needs Analysis </a:t>
            </a: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of the </a:t>
            </a:r>
            <a:br>
              <a:rPr sz="3200"/>
            </a:br>
            <a:r>
              <a:rPr b="0" lang="sl-SI" sz="3200" spc="-1" strike="noStrike">
                <a:solidFill>
                  <a:srgbClr val="ff9900"/>
                </a:solidFill>
                <a:latin typeface="Arial"/>
              </a:rPr>
              <a:t>Western Balkan countr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6400" y="4460760"/>
            <a:ext cx="8067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Davor Kozmu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Ministry of Higher Education, Science and Technology, Slove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Ljubljana, 28 &amp; 29 September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9160" y="5994360"/>
            <a:ext cx="1496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32960" y="6338880"/>
            <a:ext cx="180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5400" y="21888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2200" y="1343160"/>
            <a:ext cx="7359480" cy="26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fun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RTD in WBC 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otal of GDP(lowest BiH 0,05%, Macedonia 0,22%,Montenegro 0,3%, Serbia 0,32% and highest in Croatia 1,1%)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ing of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strate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favorable for RTD development and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stablishing of funding instrum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tate, private, international) grants, loans, tax redu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pecific Support A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W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U-CAR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gramme also for RTD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28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ONCLUSIONS – Where can EU help today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ce in the renewing of research equipment (technology transf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tom up” initiation and involvement in international projects (opening of Framework programmes, CA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ing of National Contact Points (tra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building for policy makers (tra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to E-network and scientific E-databases for researcher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, informatisation of librar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ANT, Web of Knowledge, Science Direct, GRID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, COBI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visas (mo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57320" y="33948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bjectives of 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1000" y="1485720"/>
            <a:ext cx="735984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bing National Systems of Research ( e.g. GERD - gross domestic expenditure on RTD, BERD – business expenditure on RTD, RTD-personnel by sectors and industries; productivity figures, PC and internet penetration) mapping of RTD stakeholders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questionnaire for ministrie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gathering on Research priorities and programme management issues addressed in and by their national RTD programmes and funds as well as Bilateral Intergovernmental RTD Programmes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questionnaire for ministrie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D Cooperation Needs of the target Countries (Albania, BiH, Croatia, Macedonia, Montenegro and Serbia); </a:t>
            </a:r>
            <a:r>
              <a:rPr b="0" lang="en-US" sz="1600" spc="-1" strike="noStrike">
                <a:solidFill>
                  <a:srgbClr val="ff0033"/>
                </a:solidFill>
                <a:latin typeface="Arial"/>
              </a:rPr>
              <a:t>interviews with government representatives and researchers, survey among research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arget countrie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s – WBC countri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5040" y="1824120"/>
            <a:ext cx="405108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4880" y="299052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urpose of gathering dat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3889440"/>
            <a:ext cx="73594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to identify priority issues in RTD of W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in identifying approaches to joint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at preparing web-based communication, E-database and RTD information of WB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7760" y="1695600"/>
            <a:ext cx="7359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Presentation and discussion with researchers and government representatives (workshops in W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mall survey among the present researchers at the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406440"/>
            <a:ext cx="73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Data collec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42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tructure of </a:t>
            </a:r>
            <a:r>
              <a:rPr b="0" lang="sl-SI" sz="2400" spc="-1" strike="noStrike">
                <a:solidFill>
                  <a:srgbClr val="ffcc66"/>
                </a:solidFill>
                <a:latin typeface="Arial"/>
              </a:rPr>
              <a:t>the stud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(Needs Analysis Report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" y="1609560"/>
            <a:ext cx="70297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egories of the observation in the Needs analysis rep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grouped needs, suggestions and observations that we got with the interviews into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tegories. This categories are in accordance with categorization that is also used in EU documents “EU – Balkan countries Action Plan in S&amp;T” (Thesaloniki, 2003), “Shared Vision” and “Action Plan” (Brussels 200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1eb9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1.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2. HUMAN POT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3. INSTITUTION BUILDING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4. JOINT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0033"/>
                </a:solidFill>
                <a:latin typeface="Arial"/>
              </a:rPr>
              <a:t>5. FU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0" y="63792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1031760"/>
            <a:ext cx="9144000" cy="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1504800"/>
            <a:ext cx="9144000" cy="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790640"/>
            <a:ext cx="7359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Modernizing the equi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bora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of new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echnology and innovation p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ational/regional level), new research capacities in m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quipment of librar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books, scientific journals, informatization of librarire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– COBISS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cc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uropean multi-gigabit computer networ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to E-data bases and scientific E-journ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eb of Knowledge, Science direct, ISI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240" y="62820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UMAN POTENTIA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790640"/>
            <a:ext cx="7359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ing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rain dr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brain waste (connected with other problems: infrastructure, funding, mobility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Mo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grammes for researchers and profes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international and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regional collabo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researchers from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usiness s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es not have the capacities to employ researchers (almost no research is done in private s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Visa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7320" y="676080"/>
            <a:ext cx="733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STITUTION BUILDING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2209320"/>
            <a:ext cx="73594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and defined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ational Strategy for RT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mi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ing a national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trategy to attract the SME’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research field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aspect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building the network of</a:t>
            </a: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NCP’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through the project called ERA WEST BALK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240" y="828360"/>
            <a:ext cx="73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JOINT RESEAR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2209320"/>
            <a:ext cx="73594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Low participation in EU Framework program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ing of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ndust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private sector at national and regional level for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joint collaboration with sci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ME’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Creation of international and regional netwo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8:39:48Z</dcterms:created>
  <dc:creator/>
  <dc:description/>
  <cp:keywords/>
  <dc:language>en-US</dc:language>
  <cp:lastModifiedBy>Davor Kozmus</cp:lastModifiedBy>
  <dcterms:modified xsi:type="dcterms:W3CDTF">2006-09-27T09:57:13Z</dcterms:modified>
  <cp:revision>104</cp:revision>
  <dc:subject/>
  <dc:title>See-Era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8044080</vt:r8>
  </property>
  <property fmtid="{D5CDD505-2E9C-101B-9397-08002B2CF9AE}" pid="3" name="_AuthorEmail">
    <vt:lpwstr>Stephan.Neuhaeuser@bmbwk.gv.at</vt:lpwstr>
  </property>
  <property fmtid="{D5CDD505-2E9C-101B-9397-08002B2CF9AE}" pid="4" name="_AuthorEmailDisplayName">
    <vt:lpwstr>Neuhäuser Stephan</vt:lpwstr>
  </property>
  <property fmtid="{D5CDD505-2E9C-101B-9397-08002B2CF9AE}" pid="5" name="_EmailSubject">
    <vt:lpwstr>WG: [Fwd: [See-era-talk] SWOT &amp; other things]</vt:lpwstr>
  </property>
  <property fmtid="{D5CDD505-2E9C-101B-9397-08002B2CF9AE}" pid="6" name="_ReviewingToolsShownOnce">
    <vt:lpwstr/>
  </property>
</Properties>
</file>