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8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800" spc="-1" strike="noStrike">
                <a:solidFill>
                  <a:srgbClr val="0c1c8c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c1c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3847680" y="-360"/>
            <a:ext cx="29480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8168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7680" y="9481680"/>
            <a:ext cx="29480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58800"/>
                <a:tab algn="l" pos="1316160"/>
                <a:tab algn="l" pos="1974960"/>
                <a:tab algn="l" pos="263196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fld id="{98DF707D-399B-4B38-BD3D-31CDFEC3A32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agnifying_Transmitter" TargetMode="External"/><Relationship Id="rId2" Type="http://schemas.openxmlformats.org/officeDocument/2006/relationships/hyperlink" Target="http://en.wikipedia.org/wiki/Double_exposure" TargetMode="External"/><Relationship Id="rId3" Type="http://schemas.openxmlformats.org/officeDocument/2006/relationships/hyperlink" Target="http://en.wikipedia.org/wiki/Double_exposure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An effective system of priority setting and management is necess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mall nations are inter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European Commission (2006): International Scientific Cooperation – Target Country Participation in FP6 (2002-2006), a („mid term“) statist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he data source for this statistical analysis is the database </a:t>
            </a:r>
            <a:r>
              <a:rPr b="1" i="1" lang="de-AT" sz="1200" spc="-1" strike="noStrike">
                <a:solidFill>
                  <a:srgbClr val="000000"/>
                </a:solidFill>
                <a:latin typeface="Arial"/>
              </a:rPr>
              <a:t>FP6 Contracts and Participants Database (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AT" sz="1200" spc="-1" strike="noStrike">
                <a:solidFill>
                  <a:srgbClr val="000000"/>
                </a:solidFill>
                <a:latin typeface="Arial"/>
              </a:rPr>
              <a:t>20060124)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roduced in February 2006 by the European Commission, DG Research, Directorate A. A CD-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was delivered to national representatives of the SP1 programme committee in February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Data on FP6 contracts and participants reflect the FP6 CPM (Contract &amp; Project Management) database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n 24 January 2006. Cut-off date was January 24th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xtracted data in the database was quality checked and, where necessary, modified on the basis of 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idation rules. This “data cleaning” exercise was not validated by data ow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he FP6 contracts database contains all contracts with status “signed”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he total number of calls included in these analyses is 138 including all priorities and programmes. By the end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P6 it is expected that about 213 calls will have been published.16 This mean that this data represent about 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f all calls in FP6. The total number of contracts analysed in this report is 5327. It is expected that this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will be much higher at the end of FP6. Therefore, these analyses are to consider as mid term analysis for FP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Publicity picture of a participant sitting in his laboratory in Colorado Springs with his "</a:t>
            </a:r>
            <a:r>
              <a:rPr b="0" lang="de-AT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gnifying Transmitter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" generating millions of volts of electricity. The arcs are about 7 meters (22 ft) long. (Tesla's notes identify this as a </a:t>
            </a:r>
            <a:r>
              <a:rPr b="0" lang="de-AT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ouble </a:t>
            </a:r>
            <a:r>
              <a:rPr b="0" lang="de-AT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exposure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 more recent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Nobel Prize in Chemistry: as well as also Lavoslav Ruzicka who won the in 1939 – the first one Croat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other more recent and alive example – and most of all: an important resource that is in some countries not yet so well tapped (but here I‘m speaking not so much of a problem of the south-east european countries but rather from some old EU member states: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 Wom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ystem of innovation – relevant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t the linear models of innovation: Science push, technology pull, market p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uman Resources – macro level: education and train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ut also: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earch carried out – out of which some data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ook into detai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Weak business s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lovak re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&gt; within reach in this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180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74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ults output – measured e.g. by publications or pa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tent statistics show here as well, that the eu –average is not clos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8920" y="440532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916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500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5072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892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500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5072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2360" y="216000"/>
            <a:ext cx="6299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916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8920" y="440532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916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500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50720" y="180000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7892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500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50720" y="4405320"/>
            <a:ext cx="312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2360" y="216000"/>
            <a:ext cx="6299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9160" y="440532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9160" y="1800000"/>
            <a:ext cx="4742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920" y="4405320"/>
            <a:ext cx="97189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0760" r="0" b="0"/>
          <a:stretch/>
        </p:blipFill>
        <p:spPr>
          <a:xfrm>
            <a:off x="6905520" y="990720"/>
            <a:ext cx="3024360" cy="6424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49240" indent="-660240">
              <a:lnSpc>
                <a:spcPct val="95000"/>
              </a:lnSpc>
              <a:spcAft>
                <a:spcPts val="1426"/>
              </a:spcAft>
              <a:buClr>
                <a:srgbClr val="cc0000"/>
              </a:buClr>
              <a:buFont typeface="Symbol" charset="2"/>
              <a:buChar char="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33668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74312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214956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55600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55600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55600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702000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600" spc="-1" strike="noStrike">
                <a:solidFill>
                  <a:srgbClr val="d81126"/>
                </a:solidFill>
                <a:latin typeface="Univers 57 Condensed"/>
              </a:rPr>
              <a:t>Slide </a:t>
            </a:r>
            <a:fld id="{01CD06B5-72A1-4AE6-B861-D08A1BAE67E8}" type="slidenum">
              <a:rPr b="0" lang="en-US" sz="1600" spc="-1" strike="noStrike">
                <a:solidFill>
                  <a:srgbClr val="d81126"/>
                </a:solidFill>
                <a:latin typeface="Univers 57 Condense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10738" r="0" b="0"/>
          <a:stretch/>
        </p:blipFill>
        <p:spPr>
          <a:xfrm>
            <a:off x="6905520" y="152280"/>
            <a:ext cx="3024360" cy="7264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1260000"/>
            <a:ext cx="6299280" cy="22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c1c8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c1c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4000" y="3600000"/>
            <a:ext cx="63338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1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2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3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4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5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lvl="6" marL="375480" indent="-2815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1738080"/>
            <a:ext cx="6300720" cy="14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c1c8c"/>
                </a:solidFill>
                <a:latin typeface="Arial"/>
              </a:rPr>
              <a:t>Innovation Potential</a:t>
            </a:r>
            <a:br>
              <a:rPr sz="4800"/>
            </a:br>
            <a:r>
              <a:rPr b="0" lang="en-US" sz="4800" spc="-1" strike="noStrike">
                <a:solidFill>
                  <a:srgbClr val="0c1c8c"/>
                </a:solidFill>
                <a:latin typeface="Arial"/>
              </a:rPr>
              <a:t>in South East Europe</a:t>
            </a:r>
            <a:endParaRPr b="0" lang="en-US" sz="4800" spc="-1" strike="noStrike">
              <a:solidFill>
                <a:srgbClr val="0c1c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500720"/>
            <a:ext cx="633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Why invest in science in SEE?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Ljubljana, 28.09.2006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81126"/>
                </a:solidFill>
                <a:latin typeface="Arial"/>
              </a:rPr>
              <a:t>Elke Dall</a:t>
            </a:r>
            <a:endParaRPr b="0" lang="en-US" sz="3200" spc="-1" strike="noStrike">
              <a:solidFill>
                <a:srgbClr val="d8112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11120" y="5257800"/>
            <a:ext cx="7758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Governance &amp; Instit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744640"/>
            <a:ext cx="5629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 National System of Innova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the network of institutions in the public and private sectors whose activities and interactions initiate, import, modify and diffuse new technologies.“ (Freeman, 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4170240"/>
            <a:ext cx="5629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 transitional economies, a series of changes emerges from the need to reorient the research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8125" t="14844" r="19999" b="12500"/>
          <a:stretch/>
        </p:blipFill>
        <p:spPr>
          <a:xfrm>
            <a:off x="76320" y="1295280"/>
            <a:ext cx="6629400" cy="5362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83971"/>
          <a:stretch/>
        </p:blipFill>
        <p:spPr>
          <a:xfrm>
            <a:off x="6905520" y="217440"/>
            <a:ext cx="3024360" cy="1154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133800" y="5257800"/>
            <a:ext cx="6744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International Netwo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6705720"/>
            <a:ext cx="601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292929"/>
                </a:solidFill>
                <a:latin typeface="Arial"/>
              </a:rPr>
              <a:t>Source: European Commission (2006): International Scientific Cooperation – Target Country Participation in FP6 (2002-2006), a („mid term“) statistical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s. Elke D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Centre for Social Innovation (Z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ke Wienzeile 2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150 Vienna,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ne: + 43-1- 49 50 442 -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x: + 43-1- 49 50 442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all@zsi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ww.zsi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ww.see-science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905520" y="217440"/>
            <a:ext cx="3024360" cy="71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7189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s. Elke D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Centre for Social Innovation (Z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ke Wienzeile 2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150 Vienna,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ne: + 43-1- 49 50 442 -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x: + 43-1- 49 50 442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all@zsi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ww.zsi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ww.see-science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240" indent="0">
              <a:lnSpc>
                <a:spcPct val="95000"/>
              </a:lnSpc>
              <a:buNone/>
              <a:tabLst>
                <a:tab algn="l" pos="0"/>
                <a:tab algn="l" pos="685332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05520" y="217440"/>
            <a:ext cx="3024360" cy="71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10080720" cy="75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3733920" y="1828800"/>
            <a:ext cx="6095880" cy="4900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4280" y="2057400"/>
            <a:ext cx="56293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Nikola Tesla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(July 9/10, 1856 – January 7, 1943) was a world-renowned Serbian inventor, physicist, mechanical engineer and electrical engineer. He was born in Smiljan, Croatia, then part of the Austrian Emp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esla is regarded as one of the most important inventors in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733920" y="1828800"/>
            <a:ext cx="6095880" cy="490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4280" y="2057400"/>
            <a:ext cx="56293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nobelpriz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Vladimir Prelog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July 23, 1906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– January 7, 1998) born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 in Sarajevo in the province of Bosnia, which then belonged to the Austrian-Hungarian Monarchy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, was a renowned Bosnian Croat chemist who worked in Prague, Zagreb and Zurich and won the Nobel Prize in chemistry (197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6840" y="1828800"/>
            <a:ext cx="3070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3733920" y="1828800"/>
            <a:ext cx="6095880" cy="4900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7655040" y="1828800"/>
            <a:ext cx="2262240" cy="3200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>
            <a:lum bright="78000"/>
          </a:blip>
          <a:stretch/>
        </p:blipFill>
        <p:spPr>
          <a:xfrm>
            <a:off x="6846840" y="1828800"/>
            <a:ext cx="3070440" cy="434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34120" y="1828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4280" y="2057400"/>
            <a:ext cx="562932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Laura Mersini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is a theoretical physicist-cosmologist, currently at the University of North Carolina Chapel Hill. She received her undergraduate degree from the University of Tirana in her native Alb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9880" y="5703840"/>
            <a:ext cx="5528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Human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947960"/>
            <a:ext cx="4800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Figure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明朝"/>
              </a:rPr>
              <a:t>The major building blocks of a system of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5515200" cy="3267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5638680"/>
            <a:ext cx="4800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明朝"/>
              </a:rPr>
              <a:t>Source: OE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9144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3749" t="17970" r="20625" b="13363"/>
          <a:stretch/>
        </p:blipFill>
        <p:spPr>
          <a:xfrm>
            <a:off x="228600" y="1693800"/>
            <a:ext cx="5715000" cy="478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6396120"/>
            <a:ext cx="48006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明朝"/>
              </a:rPr>
              <a:t>Source: Gesellschaft zur Förderung der Forschung (2006): Research and Development in South East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bright="90000"/>
          </a:blip>
          <a:srcRect l="13749" t="17970" r="20625" b="13363"/>
          <a:stretch/>
        </p:blipFill>
        <p:spPr>
          <a:xfrm>
            <a:off x="228600" y="1693800"/>
            <a:ext cx="5715000" cy="478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grayscl/>
          </a:blip>
          <a:srcRect l="2276" t="30470" r="1686" b="26564"/>
          <a:stretch/>
        </p:blipFill>
        <p:spPr>
          <a:xfrm>
            <a:off x="304920" y="3124080"/>
            <a:ext cx="9601200" cy="343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9440" y="1981080"/>
            <a:ext cx="4475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Financial Inp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396120"/>
            <a:ext cx="4800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明朝"/>
              </a:rPr>
              <a:t>Source: OE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2360" y="216000"/>
            <a:ext cx="6299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novation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3752" t="14844" r="20625" b="17188"/>
          <a:stretch/>
        </p:blipFill>
        <p:spPr>
          <a:xfrm>
            <a:off x="228600" y="1295280"/>
            <a:ext cx="5181480" cy="506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69360" y="1981080"/>
            <a:ext cx="4205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Patent Outp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6396120"/>
            <a:ext cx="48006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明朝"/>
              </a:rPr>
              <a:t>Source: Gesellschaft zur Förderung der Forschung (2006): Research and Development in South East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or Kozmus</cp:lastModifiedBy>
  <dcterms:modified xsi:type="dcterms:W3CDTF">2006-09-28T11:14:47Z</dcterms:modified>
  <cp:revision>25</cp:revision>
  <dc:subject/>
  <dc:title>Titelseite mit Thema: SEE-Science.e</dc:title>
</cp:coreProperties>
</file>