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ct" ContentType="image/x-pict"/>
  <Override PartName="/ppt/media/image6.png" ContentType="image/png"/>
  <Override PartName="/ppt/media/image5.pct" ContentType="image/x-pict"/>
  <Override PartName="/ppt/media/image7.png" ContentType="image/png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B86-B330-498E-B981-3C8AE5CC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last yer, in spite of the difficult financial situation a number of BLs have changed their statu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something on microfluorescence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highlight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lin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@ elet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EF8-DBBB-48A0-8CFA-2C95480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BE4-DE05-40DE-88B3-A826145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A2-D09C-4FE9-A865-F0F8D879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694-8F1D-4DA4-9316-64B87B93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513-6C98-451A-A6B0-64008F8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14B-9066-4BF8-BB89-D56BE964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C14-3652-41CC-8360-6810C59B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16B-3185-4ED9-A6A8-60CADC9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D09-6E63-423A-85C9-E6BFD19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CC6-5B6F-4830-A82B-E77A63B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6BD-B946-451A-ACE2-678EAB0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039-3E33-468A-B765-A41CD4B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F74-01ED-4C6E-8AF7-2BC2D16A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6046920"/>
            <a:ext cx="144792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0"/>
                </a:solidFill>
                <a:latin typeface="Arial"/>
              </a:rPr>
              <a:t>The Science and</a:t>
            </a:r>
            <a:r>
              <a:rPr b="1" lang="en-US" sz="4400" spc="-1" strike="noStrike">
                <a:solidFill>
                  <a:srgbClr val="0000f0"/>
                </a:solidFill>
                <a:latin typeface="Arial"/>
              </a:rPr>
              <a:t> T</a:t>
            </a:r>
            <a:r>
              <a:rPr b="1" lang="en-US" sz="4400" spc="-1" strike="noStrike">
                <a:solidFill>
                  <a:srgbClr val="0000f0"/>
                </a:solidFill>
                <a:latin typeface="Arial"/>
              </a:rPr>
              <a:t>echnology Network of the Center Europea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orgio Paoluc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I S&amp;T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rotrone Tri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0280" y="1438200"/>
            <a:ext cx="754380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0"/>
                </a:solidFill>
                <a:latin typeface="Arial"/>
              </a:rPr>
              <a:t>CEI Research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2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mobility of CEI researchers, in particular from non-EU CEI countries to institutions of the Trie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0028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0"/>
                </a:solidFill>
                <a:latin typeface="Arial"/>
              </a:rPr>
              <a:t>Elettra: one of the centers in the Tries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7657920" cy="48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9880" y="6095880"/>
            <a:ext cx="57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0"/>
                </a:solidFill>
                <a:latin typeface="Arial"/>
              </a:rPr>
              <a:t>CEI and IAEA trai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7200" y="1033560"/>
            <a:ext cx="8713800" cy="4655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48920" y="2211480"/>
            <a:ext cx="4095720" cy="517320"/>
          </a:xfrm>
          <a:prstGeom prst="ellipse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tron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48920" y="5578560"/>
            <a:ext cx="4095720" cy="517320"/>
          </a:xfrm>
          <a:prstGeom prst="ellipse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tron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synchro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5600" y="1143000"/>
            <a:ext cx="8888400" cy="55515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74240" y="4724280"/>
            <a:ext cx="2811960" cy="1298160"/>
            <a:chOff x="1074240" y="4724280"/>
            <a:chExt cx="2811960" cy="1298160"/>
          </a:xfrm>
        </p:grpSpPr>
        <p:sp>
          <p:nvSpPr>
            <p:cNvPr id="107" name=""/>
            <p:cNvSpPr/>
            <p:nvPr/>
          </p:nvSpPr>
          <p:spPr>
            <a:xfrm flipH="1" flipV="1">
              <a:off x="1142640" y="4724280"/>
              <a:ext cx="685800" cy="1067040"/>
            </a:xfrm>
            <a:prstGeom prst="line">
              <a:avLst/>
            </a:prstGeom>
            <a:ln w="25560">
              <a:solidFill>
                <a:srgbClr val="eef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905120" y="5486040"/>
              <a:ext cx="1981080" cy="304920"/>
            </a:xfrm>
            <a:prstGeom prst="line">
              <a:avLst/>
            </a:prstGeom>
            <a:ln w="25560">
              <a:solidFill>
                <a:srgbClr val="eef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4240" y="5562720"/>
              <a:ext cx="1567440" cy="459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eef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f000"/>
                  </a:solidFill>
                  <a:latin typeface="Arial"/>
                </a:rPr>
                <a:t>beaml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43000" y="1066680"/>
            <a:ext cx="4648320" cy="2819520"/>
            <a:chOff x="1143000" y="1066680"/>
            <a:chExt cx="4648320" cy="2819520"/>
          </a:xfrm>
        </p:grpSpPr>
        <p:sp>
          <p:nvSpPr>
            <p:cNvPr id="111" name=""/>
            <p:cNvSpPr/>
            <p:nvPr/>
          </p:nvSpPr>
          <p:spPr>
            <a:xfrm>
              <a:off x="1600200" y="1295280"/>
              <a:ext cx="2362320" cy="685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295280"/>
              <a:ext cx="1067040" cy="1905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1295280"/>
              <a:ext cx="4267440" cy="25909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1066680"/>
              <a:ext cx="838080" cy="366120"/>
            </a:xfrm>
            <a:prstGeom prst="rect">
              <a:avLst/>
            </a:prstGeom>
            <a:solidFill>
              <a:srgbClr val="e3e3e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affff"/>
                  </a:solidFill>
                  <a:latin typeface="Arial"/>
                </a:rPr>
                <a:t>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124080" y="2743200"/>
            <a:ext cx="1600200" cy="366120"/>
            <a:chOff x="3124080" y="2743200"/>
            <a:chExt cx="1600200" cy="366120"/>
          </a:xfrm>
        </p:grpSpPr>
        <p:sp>
          <p:nvSpPr>
            <p:cNvPr id="116" name=""/>
            <p:cNvSpPr/>
            <p:nvPr/>
          </p:nvSpPr>
          <p:spPr>
            <a:xfrm>
              <a:off x="3809880" y="2895480"/>
              <a:ext cx="914400" cy="76320"/>
            </a:xfrm>
            <a:prstGeom prst="line">
              <a:avLst/>
            </a:prstGeom>
            <a:ln w="25560">
              <a:solidFill>
                <a:srgbClr val="c09c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2743200"/>
              <a:ext cx="1143000" cy="3661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d9d00"/>
                  </a:solidFill>
                  <a:latin typeface="Arial"/>
                </a:rPr>
                <a:t>inj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529320" y="809640"/>
            <a:ext cx="2664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2500"/>
              </a:spcBef>
              <a:buClr>
                <a:srgbClr val="ebe26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269"/>
                </a:solidFill>
                <a:latin typeface="Arial"/>
              </a:rPr>
              <a:t>19 beamlines in operation and open to extern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2500"/>
              </a:spcBef>
              <a:buClr>
                <a:srgbClr val="e381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8100"/>
                </a:solidFill>
                <a:latin typeface="Arial"/>
              </a:rPr>
              <a:t>2 beamlines under commis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2500"/>
              </a:spcBef>
              <a:buClr>
                <a:srgbClr val="79b7d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b7d0"/>
                </a:solidFill>
                <a:latin typeface="Arial"/>
              </a:rPr>
              <a:t>4 beamline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Bef>
                <a:spcPts val="2500"/>
              </a:spcBef>
              <a:buClr>
                <a:srgbClr val="cc66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Arial"/>
              </a:rPr>
              <a:t>1 FEL test beam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560" y="177480"/>
            <a:ext cx="24526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s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81840" y="615960"/>
            <a:ext cx="527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0"/>
                </a:solidFill>
                <a:latin typeface="Arial"/>
              </a:rPr>
              <a:t>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ttra is a research infrastructure offering a research service to the community of materials analysis, from isolated atoms to human be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101520"/>
            <a:ext cx="774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ment runs performed in one year (July 2004-June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3960" y="622440"/>
          <a:ext cx="9899640" cy="41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622440"/>
                    <a:ext cx="989964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133720" y="5105520"/>
          <a:ext cx="10458360" cy="124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105520"/>
                    <a:ext cx="104583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71600" y="4648320"/>
            <a:ext cx="523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rs in one year (July 2004-June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4440" y="1370520"/>
            <a:ext cx="723924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institutions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5440" y="1828800"/>
            <a:ext cx="878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TP (International Center for Theoretical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Scienc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GEB (International Center for Genetic Engineering and Bio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S-UNIDO (UNIDO International Centre for Science and High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AS (International School for Advanced Stu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ttra synchrotron radiation laborat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00" y="4038480"/>
            <a:ext cx="83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ave signed agreements with CEI to host scientists from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velopment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905120"/>
            <a:ext cx="824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innovation do not come necessarily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udied but also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429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 is a development coming from 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5257800" cy="502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3657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CEI: an intergovernmental forum for political, economic and cultural co-operation One of CEI’s objectives is to bring the countries of Central and Eastern Europe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0"/>
                </a:solidFill>
                <a:latin typeface="Arial"/>
              </a:rPr>
              <a:t>CEI working are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95480" y="0"/>
            <a:ext cx="6096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Agricul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Civil Pro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Combating Organised Cr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Cross-Border Co-operation and Local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Cul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du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ner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Environmental Pro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Human Resource Development and Trai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Information and Me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Information Technolo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Mig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Minor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Science and Technolo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From Research to Enterpr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Other activ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Small and Medium Sized Enterpri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ouris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Trans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Youth Affa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0"/>
                </a:solidFill>
                <a:latin typeface="Arial"/>
              </a:rPr>
              <a:t>The CEI Scientific and Technological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agreements between the CEI Secretariats and Centres of Scientific and Technological Excellence willing to dedicate a part of their activities to the 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Agreements with institutions belonging to the “Trieste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le CEI structur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G on Science and Technology, CEI (executive secretariat) CEI-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 Organisations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ieste System” Centres of Excellence and Centres of Excellence in CEI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I, UNESCO, EU, European Bank for Reconstruction and Development (EB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480" y="685800"/>
            <a:ext cx="902160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e of the highest concentration of research centers in Euro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CTP (International Center for Theoretical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 Scienc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CGEB (International Center for Genetic engineering and Bio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CS-UNIDO (UNIDO International Centre for Science and High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AS (International School for Advanced Stu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Elettra synchrotron radiation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00200" y="3809880"/>
            <a:ext cx="5661720" cy="2990160"/>
            <a:chOff x="1600200" y="3809880"/>
            <a:chExt cx="5661720" cy="2990160"/>
          </a:xfrm>
        </p:grpSpPr>
        <p:grpSp>
          <p:nvGrpSpPr>
            <p:cNvPr id="59" name=""/>
            <p:cNvGrpSpPr/>
            <p:nvPr/>
          </p:nvGrpSpPr>
          <p:grpSpPr>
            <a:xfrm>
              <a:off x="1600200" y="4205160"/>
              <a:ext cx="5661720" cy="2594880"/>
              <a:chOff x="1600200" y="4205160"/>
              <a:chExt cx="5661720" cy="2594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32600" y="4205160"/>
                <a:ext cx="336240" cy="2593800"/>
              </a:xfrm>
              <a:custGeom>
                <a:avLst/>
                <a:gdLst/>
                <a:ahLst/>
                <a:rect l="l" t="t" r="r" b="b"/>
                <a:pathLst>
                  <a:path w="248" h="2080">
                    <a:moveTo>
                      <a:pt x="0" y="2080"/>
                    </a:moveTo>
                    <a:lnTo>
                      <a:pt x="248" y="1888"/>
                    </a:lnTo>
                    <a:lnTo>
                      <a:pt x="248" y="0"/>
                    </a:lnTo>
                    <a:lnTo>
                      <a:pt x="0" y="192"/>
                    </a:lnTo>
                    <a:lnTo>
                      <a:pt x="0" y="208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32600" y="4205160"/>
                <a:ext cx="336240" cy="2593800"/>
              </a:xfrm>
              <a:custGeom>
                <a:avLst/>
                <a:gdLst/>
                <a:ahLst/>
                <a:rect l="l" t="t" r="r" b="b"/>
                <a:pathLst>
                  <a:path w="248" h="2080">
                    <a:moveTo>
                      <a:pt x="0" y="2080"/>
                    </a:moveTo>
                    <a:lnTo>
                      <a:pt x="248" y="1888"/>
                    </a:lnTo>
                    <a:lnTo>
                      <a:pt x="2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32600" y="4205160"/>
                <a:ext cx="336240" cy="2593800"/>
              </a:xfrm>
              <a:custGeom>
                <a:avLst/>
                <a:gdLst/>
                <a:ahLst/>
                <a:rect l="l" t="t" r="r" b="b"/>
                <a:pathLst>
                  <a:path w="248" h="2080">
                    <a:moveTo>
                      <a:pt x="248" y="0"/>
                    </a:moveTo>
                    <a:lnTo>
                      <a:pt x="0" y="192"/>
                    </a:lnTo>
                    <a:lnTo>
                      <a:pt x="0" y="2080"/>
                    </a:lnTo>
                    <a:lnTo>
                      <a:pt x="248" y="1888"/>
                    </a:lnTo>
                    <a:lnTo>
                      <a:pt x="2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30160" y="6000840"/>
                <a:ext cx="3422520" cy="89640"/>
              </a:xfrm>
              <a:custGeom>
                <a:avLst/>
                <a:gdLst/>
                <a:ahLst/>
                <a:rect l="l" t="t" r="r" b="b"/>
                <a:pathLst>
                  <a:path w="2521" h="72">
                    <a:moveTo>
                      <a:pt x="0" y="72"/>
                    </a:moveTo>
                    <a:lnTo>
                      <a:pt x="2417" y="72"/>
                    </a:lnTo>
                    <a:lnTo>
                      <a:pt x="2521" y="0"/>
                    </a:lnTo>
                    <a:lnTo>
                      <a:pt x="104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7373b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30160" y="6090480"/>
                <a:ext cx="3281400" cy="369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11920" y="6000840"/>
                <a:ext cx="141120" cy="458640"/>
              </a:xfrm>
              <a:custGeom>
                <a:avLst/>
                <a:gdLst/>
                <a:ahLst/>
                <a:rect l="l" t="t" r="r" b="b"/>
                <a:pathLst>
                  <a:path w="104" h="368">
                    <a:moveTo>
                      <a:pt x="104" y="288"/>
                    </a:moveTo>
                    <a:lnTo>
                      <a:pt x="0" y="368"/>
                    </a:lnTo>
                    <a:lnTo>
                      <a:pt x="0" y="72"/>
                    </a:lnTo>
                    <a:lnTo>
                      <a:pt x="104" y="0"/>
                    </a:lnTo>
                    <a:lnTo>
                      <a:pt x="104" y="288"/>
                    </a:lnTo>
                    <a:close/>
                  </a:path>
                </a:pathLst>
              </a:custGeom>
              <a:solidFill>
                <a:srgbClr val="4d4d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30160" y="5631840"/>
                <a:ext cx="1368360" cy="99360"/>
              </a:xfrm>
              <a:custGeom>
                <a:avLst/>
                <a:gdLst/>
                <a:ahLst/>
                <a:rect l="l" t="t" r="r" b="b"/>
                <a:pathLst>
                  <a:path w="1008" h="80">
                    <a:moveTo>
                      <a:pt x="0" y="80"/>
                    </a:moveTo>
                    <a:lnTo>
                      <a:pt x="904" y="80"/>
                    </a:lnTo>
                    <a:lnTo>
                      <a:pt x="1008" y="0"/>
                    </a:lnTo>
                    <a:lnTo>
                      <a:pt x="104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73264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30160" y="5731200"/>
                <a:ext cx="1227240" cy="358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57400" y="5631840"/>
                <a:ext cx="141120" cy="458640"/>
              </a:xfrm>
              <a:custGeom>
                <a:avLst/>
                <a:gdLst/>
                <a:ahLst/>
                <a:rect l="l" t="t" r="r" b="b"/>
                <a:pathLst>
                  <a:path w="104" h="368">
                    <a:moveTo>
                      <a:pt x="104" y="296"/>
                    </a:moveTo>
                    <a:lnTo>
                      <a:pt x="0" y="368"/>
                    </a:lnTo>
                    <a:lnTo>
                      <a:pt x="0" y="80"/>
                    </a:lnTo>
                    <a:lnTo>
                      <a:pt x="104" y="0"/>
                    </a:lnTo>
                    <a:lnTo>
                      <a:pt x="104" y="296"/>
                    </a:lnTo>
                    <a:close/>
                  </a:path>
                </a:pathLst>
              </a:custGeom>
              <a:solidFill>
                <a:srgbClr val="4d1a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30160" y="5272560"/>
                <a:ext cx="1998360" cy="99360"/>
              </a:xfrm>
              <a:custGeom>
                <a:avLst/>
                <a:gdLst/>
                <a:ahLst/>
                <a:rect l="l" t="t" r="r" b="b"/>
                <a:pathLst>
                  <a:path w="1472" h="80">
                    <a:moveTo>
                      <a:pt x="0" y="80"/>
                    </a:moveTo>
                    <a:lnTo>
                      <a:pt x="1376" y="80"/>
                    </a:lnTo>
                    <a:lnTo>
                      <a:pt x="1472" y="0"/>
                    </a:lnTo>
                    <a:lnTo>
                      <a:pt x="104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fb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30160" y="5372280"/>
                <a:ext cx="1868040" cy="358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98560" y="5272560"/>
                <a:ext cx="129960" cy="458640"/>
              </a:xfrm>
              <a:custGeom>
                <a:avLst/>
                <a:gdLst/>
                <a:ahLst/>
                <a:rect l="l" t="t" r="r" b="b"/>
                <a:pathLst>
                  <a:path w="96" h="368">
                    <a:moveTo>
                      <a:pt x="96" y="288"/>
                    </a:moveTo>
                    <a:lnTo>
                      <a:pt x="0" y="368"/>
                    </a:lnTo>
                    <a:lnTo>
                      <a:pt x="0" y="80"/>
                    </a:lnTo>
                    <a:lnTo>
                      <a:pt x="96" y="0"/>
                    </a:lnTo>
                    <a:lnTo>
                      <a:pt x="96" y="288"/>
                    </a:lnTo>
                    <a:close/>
                  </a:path>
                </a:pathLst>
              </a:custGeom>
              <a:solidFill>
                <a:srgbClr val="80806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30160" y="4913280"/>
                <a:ext cx="2901240" cy="89640"/>
              </a:xfrm>
              <a:custGeom>
                <a:avLst/>
                <a:gdLst/>
                <a:ahLst/>
                <a:rect l="l" t="t" r="r" b="b"/>
                <a:pathLst>
                  <a:path w="2137" h="72">
                    <a:moveTo>
                      <a:pt x="0" y="72"/>
                    </a:moveTo>
                    <a:lnTo>
                      <a:pt x="2033" y="72"/>
                    </a:lnTo>
                    <a:lnTo>
                      <a:pt x="2137" y="0"/>
                    </a:lnTo>
                    <a:lnTo>
                      <a:pt x="104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bfb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30160" y="5002920"/>
                <a:ext cx="2760120" cy="3690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0640" y="4913280"/>
                <a:ext cx="141120" cy="458640"/>
              </a:xfrm>
              <a:custGeom>
                <a:avLst/>
                <a:gdLst/>
                <a:ahLst/>
                <a:rect l="l" t="t" r="r" b="b"/>
                <a:pathLst>
                  <a:path w="104" h="368">
                    <a:moveTo>
                      <a:pt x="104" y="288"/>
                    </a:moveTo>
                    <a:lnTo>
                      <a:pt x="0" y="368"/>
                    </a:lnTo>
                    <a:lnTo>
                      <a:pt x="0" y="72"/>
                    </a:lnTo>
                    <a:lnTo>
                      <a:pt x="104" y="0"/>
                    </a:lnTo>
                    <a:lnTo>
                      <a:pt x="104" y="288"/>
                    </a:lnTo>
                    <a:close/>
                  </a:path>
                </a:pathLst>
              </a:custGeom>
              <a:solidFill>
                <a:srgbClr val="66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30160" y="4543920"/>
                <a:ext cx="3564000" cy="99720"/>
              </a:xfrm>
              <a:custGeom>
                <a:avLst/>
                <a:gdLst/>
                <a:ahLst/>
                <a:rect l="l" t="t" r="r" b="b"/>
                <a:pathLst>
                  <a:path w="2625" h="80">
                    <a:moveTo>
                      <a:pt x="0" y="80"/>
                    </a:moveTo>
                    <a:lnTo>
                      <a:pt x="2529" y="80"/>
                    </a:lnTo>
                    <a:lnTo>
                      <a:pt x="2625" y="0"/>
                    </a:lnTo>
                    <a:lnTo>
                      <a:pt x="104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4d004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30160" y="4644000"/>
                <a:ext cx="3433320" cy="35892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63840" y="4543920"/>
                <a:ext cx="130320" cy="458640"/>
              </a:xfrm>
              <a:custGeom>
                <a:avLst/>
                <a:gdLst/>
                <a:ahLst/>
                <a:rect l="l" t="t" r="r" b="b"/>
                <a:pathLst>
                  <a:path w="96" h="368">
                    <a:moveTo>
                      <a:pt x="96" y="296"/>
                    </a:moveTo>
                    <a:lnTo>
                      <a:pt x="0" y="368"/>
                    </a:lnTo>
                    <a:lnTo>
                      <a:pt x="0" y="80"/>
                    </a:lnTo>
                    <a:lnTo>
                      <a:pt x="96" y="0"/>
                    </a:lnTo>
                    <a:lnTo>
                      <a:pt x="96" y="296"/>
                    </a:lnTo>
                    <a:close/>
                  </a:path>
                </a:pathLst>
              </a:custGeom>
              <a:solidFill>
                <a:srgbClr val="3300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78320" y="6165360"/>
                <a:ext cx="1983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Friuli Venezia Giuli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45400" y="5796360"/>
                <a:ext cx="96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Italy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67480" y="5467320"/>
                <a:ext cx="162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European Union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56680" y="5068080"/>
                <a:ext cx="48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US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60480" y="4718880"/>
                <a:ext cx="64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Japan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632600" y="4444200"/>
                <a:ext cx="1080" cy="235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600200" y="6798960"/>
                <a:ext cx="32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1600200" y="4444560"/>
                <a:ext cx="324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18360" y="3809880"/>
              <a:ext cx="4831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Number of researchers/ working uni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Trieste Research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0"/>
                </a:solidFill>
                <a:latin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Research to Enterprise”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I Research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Seed 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(15 k€) to finance feasibility studies of business ideas stemming from re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le applic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 of the CEI Member States, graduated in any discipli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, currently employed in universities and other public research institutions in CEI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e to applicants from Albania, Belarus, Bosnia and Herzegovina, Bulgaria, Croatia, Macedonia, Moldova, Romania, Serbia and Montenegro, Ukra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128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0200" y="27936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0"/>
                </a:solidFill>
                <a:latin typeface="Arial"/>
              </a:rPr>
              <a:t>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and technological quality of the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 in terms of pract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market value of the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for potential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of the project team leader (not older than 32 years) and the average age of the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Committ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man of CEI S&amp;T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resentative of the CEI Executive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resentative of the EB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usiness advi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specialists within the relevant field of science as scientific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1280" cy="396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00200" y="279360"/>
            <a:ext cx="75438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0"/>
                </a:solidFill>
                <a:latin typeface="Arial"/>
              </a:rPr>
              <a:t>Past aw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3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, development and manufacturing of atmospheric - pressure plasma sources for surface modification of polymeric material used in the automotive, textile, rubber, paper, wood and other industr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. Cernak,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3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ematic so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. Lutovac S&amp;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3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IT-proces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. Tatur, Belar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3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ground sound for cellular teleph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. Trpeski, Macedo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280" y="5410080"/>
            <a:ext cx="7543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a"/>
                </a:solidFill>
                <a:latin typeface="Arial"/>
              </a:rPr>
              <a:t>NEXT deadline: October 31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orgio paolucci</cp:lastModifiedBy>
  <dcterms:modified xsi:type="dcterms:W3CDTF">2006-09-29T05:47:17Z</dcterms:modified>
  <cp:revision>20</cp:revision>
  <dc:subject/>
  <dc:title>The Science and Technology Network of the Center European Initiative</dc:title>
</cp:coreProperties>
</file>