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4BE72-EC74-49B2-A309-28ADAF75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77724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3200" y="3224520"/>
            <a:ext cx="77724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668D1-C50F-4F1A-B867-B73D7B95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5880" y="16002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3200" y="322452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5880" y="322452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B300-0A5D-433F-84A8-4CFF5BAA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1200" y="160020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8840" y="160020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200" y="322452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1200" y="322452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8840" y="322452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1B5E9-5041-438B-B0BC-32CA89DB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712F-5B2C-466A-BB94-0B5F01B3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73200" y="1600200"/>
            <a:ext cx="7772400" cy="31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5A36-85E6-4903-ACD5-EA4B0F68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7772400" cy="31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0EC0-6EE2-43F0-900D-DC99098B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3792600" cy="31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5880" y="1600200"/>
            <a:ext cx="3792600" cy="31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F310-E5DA-43FD-BC9E-C2EE9D3E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7A5E-C4E2-4589-BF71-A1ABFDE2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89200" y="952200"/>
            <a:ext cx="30812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4B28-E676-45CA-AA55-F4C4CE36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5880" y="1600200"/>
            <a:ext cx="3792600" cy="31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73200" y="322452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F010-990B-4CCA-83F7-80E99F30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3200" y="1600200"/>
            <a:ext cx="7772400" cy="31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A1E29-1E67-460D-A5D8-5A616B4F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3792600" cy="31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880" y="16002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5880" y="322452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964D-39F9-4624-9C8F-BD65EA3B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880" y="16002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73200" y="3224520"/>
            <a:ext cx="77724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6F1A-FB58-43E1-86CC-B77CF519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77724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73200" y="3224520"/>
            <a:ext cx="77724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4191-F540-4BD7-8D35-96BF9063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5880" y="16002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3200" y="322452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5880" y="322452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D239-41DD-439C-B177-BC2B60F3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1200" y="160020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28840" y="160020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73200" y="322452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1200" y="322452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28840" y="3224520"/>
            <a:ext cx="250236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8183-BA86-4F5D-BEBB-9D4DC731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7772400" cy="31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E22C-602B-47DC-A114-CDEA5D14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3792600" cy="31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5880" y="1600200"/>
            <a:ext cx="3792600" cy="31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B13DE-6C3B-4ABC-98F8-029607AB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A5B5-BC88-48F0-8DFC-BF27FA79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89200" y="952200"/>
            <a:ext cx="30812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4AF7D-232A-47A3-8DCB-F16C4F87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5880" y="1600200"/>
            <a:ext cx="3792600" cy="31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3200" y="322452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9CBB7-97C8-4045-BD81-18DB3D81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3792600" cy="31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5880" y="16002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5880" y="322452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D180-024B-444D-9964-44F823F2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5880" y="1600200"/>
            <a:ext cx="37926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3200" y="3224520"/>
            <a:ext cx="7772400" cy="14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51636-A53D-4DED-8A3C-6B898280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8440" y="285840"/>
            <a:ext cx="2286000" cy="1103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3200" y="1600200"/>
            <a:ext cx="7772400" cy="31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449360"/>
            <a:ext cx="9144000" cy="1440"/>
          </a:xfrm>
          <a:prstGeom prst="line">
            <a:avLst/>
          </a:prstGeom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BFE6-B609-4CAB-BB71-A953B2B75D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587320"/>
            <a:ext cx="70358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6E6E-56EE-4C5D-B3AF-AFAC301397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82480" y="41400"/>
            <a:ext cx="2855880" cy="1695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0" t="0" r="0" b="7129"/>
          <a:stretch/>
        </p:blipFill>
        <p:spPr>
          <a:xfrm>
            <a:off x="0" y="6054840"/>
            <a:ext cx="9144000" cy="803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mbf.de/en/furtherance/2198.php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1628280"/>
            <a:ext cx="74167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rman Approach to Cooperation with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uth Eastern European Countrie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orities of the Incoming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rman EU Presidency</a:t>
            </a:r>
            <a:br>
              <a:rPr sz="2800"/>
            </a:br>
            <a:r>
              <a:rPr b="0" lang="en-GB" sz="1800" spc="-1" strike="noStrike">
                <a:solidFill>
                  <a:srgbClr val="000000"/>
                </a:solidFill>
                <a:latin typeface="Century"/>
              </a:rPr>
              <a:t>Erika Rost, Federal Ministry of Education and Researc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national Conference and Ministerial Round Table  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Why invest in science in South Eastern Europe?”, Ljubljana, 28-29.09.2006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5E47-3087-4818-93B9-6E72CCBEB7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0000" y="952200"/>
            <a:ext cx="34304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erman Approach to Cooperation with SEE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7772400" cy="58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national Cooperation in Education and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operation with Central, Eastern and South Eas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an Countri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333399"/>
                </a:solidFill>
                <a:latin typeface="Arial"/>
              </a:rPr>
              <a:t>Bilateral cooperation in education and research with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333399"/>
                </a:solidFill>
                <a:latin typeface="Arial"/>
              </a:rPr>
              <a:t>Central, Eastern and South Eastern European countrie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333399"/>
                </a:solidFill>
                <a:latin typeface="Arial"/>
              </a:rPr>
              <a:t>marked by the EU's enlargement to the East and the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333399"/>
                </a:solidFill>
                <a:latin typeface="Arial"/>
              </a:rPr>
              <a:t>of a European Education and Research Area. With new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333399"/>
                </a:solidFill>
                <a:latin typeface="Arial"/>
              </a:rPr>
              <a:t>of cooperation and by focusing on key areas of mu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333399"/>
                </a:solidFill>
                <a:latin typeface="Arial"/>
              </a:rPr>
              <a:t>interest, it is intended to expand bilateral cooperation at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333399"/>
                </a:solidFill>
                <a:latin typeface="Arial"/>
              </a:rPr>
              <a:t>European level and thus to generate a bilateral as well a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333399"/>
                </a:solidFill>
                <a:latin typeface="Arial"/>
              </a:rPr>
              <a:t>European added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0EA04-A664-4AFE-9970-8150AA8C8A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0000" y="952200"/>
            <a:ext cx="34304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erman Approach to Cooperation with SEE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7772400" cy="637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peration wit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Central, Easter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South Eastern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imulate cooperation and networking of German institutions with European and international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capabilities in R&amp;D projects which are of mutual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ompetitiveness, achieve syner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ster the integration of SEE into the growing European Research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ibute to the development of the ERA and to the Lisb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1FD1F-DBE6-4D8D-BA10-0D35B34067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0000" y="952200"/>
            <a:ext cx="34304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erman Approach to Cooperation with SEE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77724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peration with 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Central, Eastern and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South Eastern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"/>
              </a:rPr>
              <a:t>Instrument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Regional Call” – International Cooperation in Education and Research – Central, Eastern and South Eastern European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upports th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reparation of projec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applied R&amp;D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 current funding programmes of the Federal Ministry of Education and Research (BMBF)</a:t>
            </a:r>
            <a:br>
              <a:rPr sz="2000"/>
            </a:b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.g. New technologies, Life sciences,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ed to thematic priorities of the specific programme Cooperation of the EU 7. FP,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alth, Biotechnology, ICT, Nanotechnologies, Materials, Environ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"/>
              </a:rPr>
              <a:t>Instrument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Joint Research Bas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1AD95-6683-4ADC-8C5D-136F25EC02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0000" y="952200"/>
            <a:ext cx="34304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erman Approach to Cooperation with SEE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7772400" cy="937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Cooperation wi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Central, Easter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South Eastern Europea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Fund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er education and research institutions in conjunction with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itutions from CEE/SEE countries (preference for applications inv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Es); Consortia: German applicant and two or more further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f which one or more from CEE/SEE country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Funding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velling expenses incurred by German 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ts of sojourns of foreign experts in German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special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ff costs for investigations of feasibility and costs of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ysical resources (consumables for pilot investigatio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rants up to 50,000 € pro the preparation of particularly complex proje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5BD61-7C85-4ED4-B249-CB7A9E1829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0000" y="952200"/>
            <a:ext cx="34304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erman Approach to Cooperation with SEE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3200" y="159984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peration wit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Central, Easter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South Eastern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election cri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ientific quality and originality of work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spects of success of the planned project (BMBF/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lification of project coordinator and project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lity of the cooperation and mutual 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rcial exploitation of the anticipate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on of young scient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additional criteria in the case of “Joint Research Base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B3B55-25B7-4816-99CB-B35113057A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0000" y="952200"/>
            <a:ext cx="34304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erman Approach to Cooperation with SEE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Cooperation wi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Central, Easter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South Eastern Europea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lication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accepted and processed conti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mbf.de/en/furtherance/2198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ponsibl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Regional Call: BMBF (Ref. 2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act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ternational Bureau of BMBF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internationales-buero.d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68B11-DC6B-4F9C-8F90-C7066563A7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0000" y="952200"/>
            <a:ext cx="34304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erman Approach to Cooperation with SEE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73200" y="1599840"/>
            <a:ext cx="7772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Arial"/>
              </a:rPr>
              <a:t>Cooperation wit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Central, Eastern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Arial"/>
              </a:rPr>
              <a:t>South Eastern Europea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"/>
              </a:rPr>
              <a:t>Instrumen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SEE-ERA-N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9900"/>
                </a:solidFill>
                <a:latin typeface="Arial"/>
              </a:rPr>
              <a:t>Integrating and strengthening the European Research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9900"/>
                </a:solidFill>
                <a:latin typeface="Arial"/>
              </a:rPr>
              <a:t>in Southeast Europ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German participation, leader of WP 4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Discussion and Identification of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trategic Initiatives“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White paper, Joint Ac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Participation in the Joint Ca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Preparation Measures, Accompanying Mesasures, Pilot Joint Call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77532-CBBD-4FD4-B042-D1AF200502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cc3300"/>
                </a:solidFill>
                <a:latin typeface="Arial"/>
              </a:rPr>
              <a:t>Cooperation with </a:t>
            </a:r>
            <a:r>
              <a:rPr b="1" lang="en" sz="2400" spc="-1" strike="noStrike">
                <a:solidFill>
                  <a:srgbClr val="808080"/>
                </a:solidFill>
                <a:latin typeface="Arial"/>
              </a:rPr>
              <a:t>Central, Eastern and</a:t>
            </a:r>
            <a:r>
              <a:rPr b="1" lang="en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cc3300"/>
                </a:solidFill>
                <a:latin typeface="Arial"/>
              </a:rPr>
              <a:t>South Eastern European Countri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nternational activities of Universities and Research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2000" spc="-1" strike="noStrike" u="sng">
                <a:solidFill>
                  <a:srgbClr val="000000"/>
                </a:solidFill>
                <a:uFillTx/>
                <a:latin typeface="Arial"/>
              </a:rPr>
              <a:t>German research organisations and institutions </a:t>
            </a:r>
            <a:br>
              <a:rPr sz="2000"/>
            </a:b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- Max Planck  Society</a:t>
            </a:r>
            <a:br>
              <a:rPr sz="2000"/>
            </a:b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- Helmholtz Association</a:t>
            </a:r>
            <a:br>
              <a:rPr sz="2000"/>
            </a:b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- Fraunhofer Society (FhG)</a:t>
            </a:r>
            <a:br>
              <a:rPr sz="2000"/>
            </a:b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- Leibniz Association (WG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(exchange of personnel, joint project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 u="sng">
                <a:solidFill>
                  <a:srgbClr val="000000"/>
                </a:solidFill>
                <a:uFillTx/>
                <a:latin typeface="Arial"/>
              </a:rPr>
              <a:t>German funding organisations</a:t>
            </a:r>
            <a:br>
              <a:rPr sz="2000"/>
            </a:b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- Deutsche Forschungsgemeinschaft (DFG)</a:t>
            </a:r>
            <a:br>
              <a:rPr sz="2000"/>
            </a:b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- German Academic Exchange Service (DAAD)</a:t>
            </a:r>
            <a:br>
              <a:rPr sz="2000"/>
            </a:b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- Alexander von Humboldt Foundation (Av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(specific programmes and initiatives, mobility and exchange programmes, “Go East”, “Go out” etc.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ECF69-DA9F-41A2-BF24-39C6C5F1B4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38480" y="952200"/>
            <a:ext cx="353196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rities of the Incoming German EU Presidency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3200" y="1599840"/>
            <a:ext cx="777240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Priorities of the Incoming German EU Presi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preliminary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earch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9EE91-8847-4552-BA87-40F08247DF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73760" y="952200"/>
            <a:ext cx="34970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rities of the Incoming German EU Presi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3200" y="1599840"/>
            <a:ext cx="77724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Priorities of the Incoming German EU Presi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ucation and Research are of 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central importa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econ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social development, they are key for the succes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isbon Strateg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respect, the new generation of programmes of the Europ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on 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rting in 2007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ll help to meet the challenges ahea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global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rman presidency will make every effort to support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user-friendly and transparent implement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n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mes and to support 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initiatives toward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greater synerg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national and European instru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C632D-4DFA-4C5D-80E4-ED3FDC6467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0000" y="952200"/>
            <a:ext cx="34304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erman Approach to Cooperation with SEE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rman Research Policy - Recen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igh-Tech Strate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ationalis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ational Cooperation in Education an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operation with South Eastern Europea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B5BD8-CB4E-405C-9CF7-9C1479615E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73760" y="952200"/>
            <a:ext cx="34970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rities of the Incoming German EU Presi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3200" y="1599840"/>
            <a:ext cx="7772400" cy="70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Priorities of the Inco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German EU Presid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du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s frontiers (Mobility program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for social coherence (cha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es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Education unites - EU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"/>
              </a:rPr>
              <a:t>Prior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- Lifelong learning – start of programme, strengthening user-friendly and transparen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- Deepening of the Bologna process for Higher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- Deepening of Copenhagen-Maastrich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- European Qualification Framework (understanding qualification across Eur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16070-C488-4650-9C8F-BDFBC12587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73760" y="952200"/>
            <a:ext cx="34970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rities of the Incoming German EU Presi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3200" y="1599840"/>
            <a:ext cx="777240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Priorities of the Incoming German EU Presi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uccess through Resear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"/>
              </a:rPr>
              <a:t>Prior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 of the 7. Research Framework Program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p to 4 decisions on the promotion of joint programmes of MS (Art. 169)</a:t>
            </a:r>
            <a:br>
              <a:rPr sz="16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p to 6 decisions on joint technology initiatives (Art. 17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engthening networking in the European Union: 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engthening of Basic Research for the value chain: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 of E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-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New paradigm: promotion of basic research (frontier resear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-- Security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-- Complete opening of FP 7 for cooperation with Third countr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6F224-0BE6-4FF3-8898-3E1B83984B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73760" y="952200"/>
            <a:ext cx="34970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rities of the Incoming German EU Presi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7772400" cy="55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"/>
              </a:rPr>
              <a:t>Specific initiativ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VADE-MECUM Financial Instr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ing the integration the new members of the European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Making better use of European Financial Instru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the Structural F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Making better use of the potential of the MS for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ADE-MECUM to advice how to finance research infrastructure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 combination of structural funds and funds from the FP 7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cc3300"/>
                </a:solidFill>
                <a:latin typeface="Arial"/>
              </a:rPr>
              <a:t>CHARTER Intellectual Property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Making better use of research results in the valu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CHARTER as guidance for handling of Intellectual Property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58F4A-C57F-47A4-8C82-3F98DC4F32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27280" y="952200"/>
            <a:ext cx="3143160" cy="6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German Approach to Cooperation with SEE Countries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900"/>
            </a:b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iorities of the Incoming German EU Presid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7772400" cy="35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Thank you for your </a:t>
            </a:r>
            <a:r>
              <a:rPr b="1" lang="en" sz="2400" spc="-1" strike="noStrike">
                <a:solidFill>
                  <a:srgbClr val="cc3300"/>
                </a:solidFill>
                <a:latin typeface="Arial"/>
              </a:rPr>
              <a:t>attention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5308-80CA-474D-97AB-B5DB41B7E0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65560" y="980640"/>
            <a:ext cx="34308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erman Approach to Cooperation with SEE Countrie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77724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12E2-7294-4723-A1E0-8B9DC0A5A5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0000" y="952200"/>
            <a:ext cx="34304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erman Approach to Cooperation with SEE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7772400" cy="76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rman Research Policy - Recen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High-Tech 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A new foundation for Germany’s innovation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9999"/>
                </a:solidFill>
                <a:latin typeface="Arial"/>
              </a:rPr>
              <a:t>A coordinated innovation policy of the Federal Governmen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entury"/>
              </a:rPr>
              <a:t>Generic activ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bine the strengths of science and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rove the conditions for high-tech start ups and 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pport rapid diffusion of 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international position of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vest in peopl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72F9A-53D1-4850-B0C6-B99C536035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0000" y="952200"/>
            <a:ext cx="34304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erman Approach to Cooperation with SEE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7772400" cy="31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rman Research Policy - Recent developments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High-Tech 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entury"/>
              </a:rPr>
              <a:t>The specific innovation strate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novation for a healthy and safe l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novation for a communicative and mobil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novation through generic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D7C89-A11E-4346-BEA6-2459FB32A4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40000" y="952200"/>
            <a:ext cx="34304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erman Approach to Cooperation with SEE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3200" y="1599840"/>
            <a:ext cx="7772400" cy="818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rman Research Policy - Recent developments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Internationalis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 does not stop at national b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cooperation stimulates dynamism and creativ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cooperation gains from complementary expertise, cross-fertilisation and pooling of resources  - 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wide for mutual benef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ght mix and balance of international cooperation and competition is a key engine of progres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operation of people, institutions, economies and socie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13424-1738-4862-BF10-B5E3D0BF0D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0000" y="952200"/>
            <a:ext cx="34304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erman Approach to Cooperation with SEE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3200" y="159984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man Research Policy - Recent developments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Internationalis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ng attractive &amp; open in education and resear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ng present in regions of strategic importance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and future marke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international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95FE6-5E90-4A01-BAF5-FA07BE191C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89200" y="952200"/>
            <a:ext cx="30812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3200" y="1599840"/>
            <a:ext cx="7772400" cy="45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man Research Policy - Recent developments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Internationalis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conditions for internationally oriented R&amp;D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research and innovation performance by international cooperation and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building of an European Education and Research Area (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 global cooperation instr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framework conditions and research promotion instr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political coordination and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1E7D-3CF6-4A3D-BC1E-37228A0BB9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40000" y="952200"/>
            <a:ext cx="34304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erman Approach to Cooperation with SEE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3038400">
            <a:off x="3403440" y="1155240"/>
            <a:ext cx="763560" cy="5580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92600" y="2359080"/>
            <a:ext cx="2522880" cy="490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obal strategic partnerships/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17600" y="5418000"/>
            <a:ext cx="2524320" cy="49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ex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98680" y="4653000"/>
            <a:ext cx="2524320" cy="49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hange of Scient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78320" y="3887640"/>
            <a:ext cx="2522520" cy="49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int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3320" y="3122640"/>
            <a:ext cx="2523960" cy="49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int research fac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60360" y="6045120"/>
            <a:ext cx="6115320" cy="18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260000" y="2226960"/>
            <a:ext cx="1800" cy="38178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26000" y="6208560"/>
            <a:ext cx="2579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70400" y="6157800"/>
            <a:ext cx="378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nsity of coop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-636120" y="3385440"/>
            <a:ext cx="30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ree of networ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1341360"/>
            <a:ext cx="7993080" cy="703800"/>
          </a:xfrm>
          <a:prstGeom prst="rect">
            <a:avLst/>
          </a:prstGeom>
          <a:solidFill>
            <a:srgbClr val="baba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here do we stand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rrent forms of international cooperation do not make full use of its possibilities and opportun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476000">
            <a:off x="1273680" y="32587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ignificance in public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1F86-862B-4725-A607-73B46735A0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3:00:01Z</dcterms:created>
  <dc:creator>roste</dc:creator>
  <dc:description>and Priorities of the Incoming German EU Presidency
Ljubljana, 28-29.09.2006</dc:description>
  <dc:language>en-US</dc:language>
  <cp:lastModifiedBy>Davor Kozmus</cp:lastModifiedBy>
  <dcterms:modified xsi:type="dcterms:W3CDTF">2006-09-29T06:58:53Z</dcterms:modified>
  <cp:revision>67</cp:revision>
  <dc:subject/>
  <dc:title>German Approach to the Cooperation with S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