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20CC-9E66-4CAE-A75E-9E8630647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360" y="369144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6B1E-B2B8-4D40-ADC0-270282333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3452-D442-4EB2-B100-20C1DCA36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5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3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5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9483-D23A-4AEF-BB36-C18FA9D57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2360" y="1359000"/>
            <a:ext cx="7916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79167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2360" y="518760"/>
            <a:ext cx="79167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360" y="1359000"/>
            <a:ext cx="79167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2538-4019-490F-8CB5-8BFB7BD43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920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360" y="369144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920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89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5560" y="135900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23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89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5560" y="3691440"/>
            <a:ext cx="2548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79167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AECD-221E-4DA6-8119-4BDE5B3EF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782F-0A60-4934-9A05-3306ADFE8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713D-D9CB-4537-A3D4-D3113229A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360" y="518760"/>
            <a:ext cx="79167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37EB-B329-405F-9480-C2C020A7E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9457-48F5-4F3A-8A29-911375F8F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9144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BBDD-D2AC-40D1-AED5-3B5CD3CB6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36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359000"/>
            <a:ext cx="38631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360" y="3691440"/>
            <a:ext cx="79167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CB16-760F-477F-B78F-BAF9D544A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51876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b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359000"/>
            <a:ext cx="79167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buClr>
                <a:srgbClr val="001e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buClr>
                <a:srgbClr val="001e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54520" y="6198840"/>
            <a:ext cx="306360" cy="306360"/>
          </a:xfrm>
          <a:prstGeom prst="rect">
            <a:avLst/>
          </a:prstGeom>
          <a:solidFill>
            <a:srgbClr val="001eb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499-75DB-4BBD-8780-3CA2C816DDB2}" type="slidenum">
              <a:rPr b="1" lang="de-A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1880" y="6537240"/>
            <a:ext cx="8051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100" spc="-1" strike="noStrike">
                <a:solidFill>
                  <a:srgbClr val="001eb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001eb7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34880" y="5877000"/>
            <a:ext cx="789624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603360" y="6394320"/>
            <a:ext cx="82994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315880" y="3463920"/>
            <a:ext cx="65516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eb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1eb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09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lnSpc>
                <a:spcPct val="130000"/>
              </a:lnSpc>
              <a:buClr>
                <a:srgbClr val="777777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1e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1e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9160" y="3463920"/>
            <a:ext cx="65516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Southeast European ERA-Net  </a:t>
            </a:r>
            <a:br>
              <a:rPr sz="2400"/>
            </a:b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the development of an instrument to integrate Western Balkan Countries into the European Research Area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34720" y="5159160"/>
            <a:ext cx="727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e7a0e"/>
                </a:solidFill>
                <a:latin typeface="Arial"/>
              </a:rPr>
              <a:t>Peter B. Mayr</a:t>
            </a:r>
            <a:r>
              <a:rPr b="0" lang="en-AU" sz="1800" spc="-1" strike="noStrike">
                <a:solidFill>
                  <a:srgbClr val="777777"/>
                </a:solidFill>
                <a:latin typeface="Arial"/>
              </a:rPr>
              <a:t>, SEE-ERA.NET Co-ordinator</a:t>
            </a:r>
            <a:r>
              <a:rPr b="0" lang="en-AU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777777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77777"/>
                </a:solidFill>
                <a:latin typeface="Arial"/>
              </a:rPr>
              <a:t>Centre for Social Innovation</a:t>
            </a:r>
            <a:r>
              <a:rPr b="0" lang="en-AU" sz="1800" spc="-1" strike="noStrike">
                <a:solidFill>
                  <a:srgbClr val="777777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30360" y="1312560"/>
            <a:ext cx="827856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Lack of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coordination of RTD policies on SEE regional level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, and meassures among different government department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sustainable regional funding programmes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in the WB countries (funded by the Western Balkan countries national funds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strategically developed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funding priorities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in some of the bilateral programmes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sufficiently qualified human ressources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at all levels (e.g. that administer national programmes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The existing (bilateral) S&amp;T relationships of the SEE-ERA.NET partner countries represent a significant potentia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90320" y="37908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1. The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7"/>
                </a:solidFill>
                <a:latin typeface="Arial"/>
              </a:rPr>
              <a:t>starting point: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D647-5F30-4876-A30A-96ECDC7EF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830412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2.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– Transparency, Interactivity, Synergy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000" y="1085760"/>
            <a:ext cx="83214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7a0e"/>
                </a:solidFill>
                <a:latin typeface="Arial"/>
              </a:rPr>
              <a:t>Objectives of </a:t>
            </a:r>
            <a:r>
              <a:rPr b="0" lang="en-AU" sz="2000" spc="-1" strike="noStrike">
                <a:solidFill>
                  <a:srgbClr val="fe7d19"/>
                </a:solidFill>
                <a:latin typeface="Arial"/>
              </a:rPr>
              <a:t>SEE-ERA.NET</a:t>
            </a:r>
            <a:r>
              <a:rPr b="0" lang="en-GB" sz="2000" spc="-1" strike="noStrike">
                <a:solidFill>
                  <a:srgbClr val="ee7a0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tegrating Southeast Europe into the European Research Are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dding value to existing </a:t>
            </a:r>
            <a:r>
              <a:rPr b="0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bilateral</a:t>
            </a: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S&amp;T agreements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mproving interregional research cooperation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ntributing to the ‘EU-Balkan countries Action Plan in S&amp;T’, adopted at EU Ministerial Conference in Thessaloniki in 2003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7a0e"/>
                </a:solidFill>
                <a:latin typeface="Arial"/>
              </a:rPr>
              <a:t>These objectives will be met through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exchange of information and best practice on bilateral RTD activities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needs analyses in the target countries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upport of policy dialogue and awareness raising in the EU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dentification of complementary approaches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Opening the existing nationally funded (bilateral) programmes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C172-946F-4506-A55C-38583DF4CC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– Structure in Work Packages 1, 2 and 3 - Exchange of information, reports and analyses</a:t>
            </a:r>
            <a:endParaRPr b="1" lang="en-US" sz="20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0000" y="1598760"/>
            <a:ext cx="3881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1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provides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analyses of the strengths and weaknesses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of bilateral programmes targeting SEE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National Office of Research and Technology 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Hungary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Ministry of Science, Education and Sports 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Croatia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2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provides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analyses of national research systems in SEE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includung needs analyses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Ministry of Higher Education, Science and Technology 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Slovenia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6520" y="1598760"/>
            <a:ext cx="38829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3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provides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reports on bilateral activities at project level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A comprehensive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project database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will be developed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Ministry for Education and Science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in </a:t>
            </a:r>
            <a:r>
              <a:rPr b="1" lang="en-AU" sz="1600" spc="-1" strike="noStrike">
                <a:solidFill>
                  <a:srgbClr val="5f5f5f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1A4C-6F6E-47D1-83DC-D0255005A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– Structure in Work Packages 4, 5 and 6: </a:t>
            </a:r>
            <a:br>
              <a:rPr sz="2000"/>
            </a:b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Strategies and joint initiatives</a:t>
            </a:r>
            <a:endParaRPr b="1" lang="en-US" sz="20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00" y="1598760"/>
            <a:ext cx="3881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4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will define strategic initiatives for joint future action (White Paper and Action Plan)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ternational Bureau of the Federal Ministry of Education and Research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at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the German Aerospace Center 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Germany</a:t>
            </a:r>
            <a:br>
              <a:rPr sz="1600"/>
            </a:br>
            <a:r>
              <a:rPr b="1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5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‘s main objective is the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launch of first joint activities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(multilateral Pilot Call) and the set-up of an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evaluator‘s database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Ministry of Development: General Secretariat for Research and Technology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Greec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6520" y="1598760"/>
            <a:ext cx="38829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6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will explore „variable geometry“ and work towards the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establisment of a regional RTD programme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Ministry of Education and Research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Romania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2841-EE95-410B-BA08-A04FEB1B5C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3. </a:t>
            </a:r>
            <a:r>
              <a:rPr b="1" lang="en-AU" sz="20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000" spc="-1" strike="noStrike">
                <a:solidFill>
                  <a:srgbClr val="001eb9"/>
                </a:solidFill>
                <a:latin typeface="Arial"/>
              </a:rPr>
              <a:t>– Structure in Work Packages 7 and 8: Communication, dissemination and project management</a:t>
            </a:r>
            <a:endParaRPr b="1" lang="en-US" sz="20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1598760"/>
            <a:ext cx="3881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7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ensures active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internal and external communication, dissemination, knowledge management and public relations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throughout the project.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Centre for Social Innovation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Austria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6520" y="1598760"/>
            <a:ext cx="38829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8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is dedicated to the overall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project management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, monitoring, coordination and financial control, whilst also maintaining the links to the European Commission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Centre for Social Innovation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Austria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57760" y="4087800"/>
            <a:ext cx="388152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e7a0e"/>
                </a:solidFill>
                <a:latin typeface="Arial"/>
              </a:rPr>
              <a:t>WP 9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aims at </a:t>
            </a:r>
            <a:r>
              <a:rPr b="1" lang="en-AU" sz="1600" spc="-1" strike="noStrike">
                <a:solidFill>
                  <a:srgbClr val="777777"/>
                </a:solidFill>
                <a:latin typeface="Arial"/>
              </a:rPr>
              <a:t>the integrating Albania and Serbia</a:t>
            </a:r>
            <a:r>
              <a:rPr b="0" lang="en-AU" sz="1600" spc="-1" strike="noStrike">
                <a:solidFill>
                  <a:srgbClr val="777777"/>
                </a:solidFill>
                <a:latin typeface="Arial"/>
              </a:rPr>
              <a:t> into all SEE-ERA.NET project activities starting with 01 April 2006</a:t>
            </a:r>
            <a:endParaRPr b="0" lang="en-US" sz="1600" spc="-1" strike="noStrike">
              <a:solidFill>
                <a:srgbClr val="001eb7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Centre for Social Innovation</a:t>
            </a:r>
            <a:r>
              <a:rPr b="0" lang="en-AU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AU" sz="1400" spc="-1" strike="noStrike">
                <a:solidFill>
                  <a:srgbClr val="5f5f5f"/>
                </a:solidFill>
                <a:latin typeface="Arial"/>
              </a:rPr>
              <a:t>Austria</a:t>
            </a:r>
            <a:endParaRPr b="0" lang="en-US" sz="14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A769-0295-4E55-BE91-32CC150C2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4. Examples of Joint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1840" y="1109520"/>
            <a:ext cx="8318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7d19"/>
                </a:solidFill>
                <a:latin typeface="Arial"/>
              </a:rPr>
              <a:t>Opening the existing nationally funded (bilateral) programme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SEE-ERA.NET Joint Call (pilote phase)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 – 2006/2007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only a few partners join, modest financial contribution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external administration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brokerage events (thematic conferences for researchers before the deadlines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project application reviewing system*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funding strategy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including a joint „virtual“ and „real“ common po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funding mechanisms will be open to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Times New Roman"/>
              </a:rPr>
              <a:t>donations from other players in the West Balkan countries</a:t>
            </a: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mix of bottom up and top dow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specific thematic areas (scientific disciplines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Times New Roman"/>
              </a:rPr>
              <a:t>Project proposals including </a:t>
            </a:r>
            <a:r>
              <a:rPr b="0" lang="en-GB" sz="1400" spc="-1" strike="noStrike" u="sng">
                <a:solidFill>
                  <a:srgbClr val="5f5f5f"/>
                </a:solidFill>
                <a:uFillTx/>
                <a:latin typeface="Arial"/>
                <a:ea typeface="Times New Roman"/>
              </a:rPr>
              <a:t>regional cooperation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  <a:ea typeface="Times New Roman"/>
              </a:rPr>
              <a:t> among the West Balkan Countries will be given preferenc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72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</a:rPr>
              <a:t>November 2006 – launch of Pilot phase: Joint Call for RTD Proposal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7296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(Steering Board meeting in Vienna , 06 /07 April 2006)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37E3-3F51-4432-B8F8-871532DA5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4. Examples of Joint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1840" y="1109520"/>
            <a:ext cx="8318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7d19"/>
                </a:solidFill>
                <a:latin typeface="Arial"/>
              </a:rPr>
              <a:t>Opening the existing nationally funded (bilateral) programme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SEE-ERA.NET 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</a:rPr>
              <a:t>joint project application reviewing system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the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assessment procedures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of the review system will be transparent, fair and dedicated to scientific excellence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f5f5f"/>
                </a:solidFill>
                <a:latin typeface="Arial"/>
              </a:rPr>
              <a:t>SEE-ERA.NET joint programme monitoring, external evaluation activitie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of the pilot joint calls for RTD proposals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SEE-ERA.NET Joint Calls (main phase)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 – 2007/2008 – 2008-2009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all SEE-ERA.NET partners join, significant financial contribution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external administration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brokerage events (thematic conferences for reseachers before the deadline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project application reviewing system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joint funding strategy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„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Turn-key ready RTD programme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361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(SEE-ERA.NET contract with the European Commission)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4903-60FC-446E-9B79-B63C52C5F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30000" y="1066680"/>
            <a:ext cx="791676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A comparative summary report (incl. SWOT-analysis and short explanation of the national research system) about the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structures and procedures of existing bilateral RTD programmes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targeting Southeast Europe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Report on the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national systems of research of all West Balkan Countries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(incl. analysis of research priorities and programmatic activities) and a mapping of their main RTD stakeholders (mapping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Report on the specific RTD co-operation needs of the West Balkan Countrie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SEE-ERA.NET Projet Database: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Set of data on projects funded under bilateral RTD programmes in a common data-base and analytical assessment of these funded projects (incl. clustering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4. Examples of Joint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9037-7009-4F6F-95D5-C949B44D9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30000" y="1066680"/>
            <a:ext cx="791676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5f5f5f"/>
                </a:solidFill>
                <a:latin typeface="Arial"/>
                <a:ea typeface="Times New Roman"/>
              </a:rPr>
              <a:t>political strategy papers, lobbying on EU level: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conference in the 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uropean Parliament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in February 2005, organised by Greece, Austria and Sloveni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U Presidency conference – 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uropean University Association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, in February 2006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„</a:t>
            </a:r>
            <a:r>
              <a:rPr b="0" i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In view of the success of the SEE-ERA.NET (the European network for integration of WBC into the ERA) project in establishing a sustainable network...“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IX Conference of 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uropean Ministers of Education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 „Strengthening Education in Europe“, March 2006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„</a:t>
            </a:r>
            <a:r>
              <a:rPr b="0" i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... support of the Southeast European Era-Net“ (Final Communiqué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J Potocnik (</a:t>
            </a:r>
            <a:r>
              <a:rPr b="1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uropean Commission</a:t>
            </a:r>
            <a:r>
              <a:rPr b="0" lang="de-D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): SEE-ERA.NET should feed into the Steering Platform for Research, June 2006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4. Examples of Joint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activities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92EE-BBC3-461D-9FEC-3C125CAA94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Summary – Two years of SEE-ERA.NET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00600"/>
            <a:ext cx="9144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1eb7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60" y="1300320"/>
            <a:ext cx="806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is the main European Commission networking project for the integration of the Southeast European countries into the European Research Area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is a network of 14 ministries and 3 agencies in 14 European countries that includes all Western Balkan countries and works directly on the level of policy makers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provides new perspectives for scientists and already existing networks in Southeast Europe by opening up a European-wide perspective for scientific cooperation and funding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1e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2090-7350-4CEB-88ED-75FBE912E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3840" y="2500200"/>
            <a:ext cx="855972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ordination of national or regional research activities (i.e. programmes) through:</a:t>
            </a:r>
            <a:endParaRPr b="0" lang="en-US" sz="20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etworking of program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parts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s) which are strategically planned and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ionally/regionally funded</a:t>
            </a:r>
            <a:endParaRPr b="0" lang="en-US" sz="2000" spc="-1" strike="noStrike">
              <a:solidFill>
                <a:srgbClr val="001eb7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mutual opening of national/regional re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692280"/>
            <a:ext cx="7480080" cy="106884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ordination of national Programmes</a:t>
            </a:r>
            <a:endParaRPr b="0" lang="en-US" sz="3200" spc="-1" strike="noStrike">
              <a:solidFill>
                <a:srgbClr val="001eb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RA-NET</a:t>
            </a:r>
            <a:endParaRPr b="0" lang="en-US" sz="32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686C-CAEB-48E5-B3DF-21EE79E0A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Summary – Two years of SEE-ERA.NET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960" y="2114640"/>
            <a:ext cx="9482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1eb7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1eb7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40" y="1601640"/>
            <a:ext cx="875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is strategic and operational input target region of the 6</a:t>
            </a:r>
            <a:r>
              <a:rPr b="0" lang="en-GB" sz="1800" spc="-1" strike="noStrike" baseline="30000">
                <a:solidFill>
                  <a:srgbClr val="001eb7"/>
                </a:solidFill>
                <a:latin typeface="Arial"/>
                <a:ea typeface="Times New Roman"/>
              </a:rPr>
              <a:t>th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and 7</a:t>
            </a:r>
            <a:r>
              <a:rPr b="0" lang="en-GB" sz="1800" spc="-1" strike="noStrike" baseline="30000">
                <a:solidFill>
                  <a:srgbClr val="001eb7"/>
                </a:solidFill>
                <a:latin typeface="Arial"/>
                <a:ea typeface="Times New Roman"/>
              </a:rPr>
              <a:t>th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Framework Programme of the European Commission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partner countries provide funding for multinational research teams through the Joint Call for Proposals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puts forward a reviewing system for research projects where the assessment procedures are transparent, fair and dedicated to scientific excelle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e2393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3937"/>
                </a:solidFill>
                <a:latin typeface="Arial"/>
                <a:ea typeface="Times New Roman"/>
              </a:rPr>
              <a:t>SEE-ERA.NET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is a long term project of </a:t>
            </a:r>
            <a:r>
              <a:rPr b="1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5 years duration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and will develop </a:t>
            </a:r>
            <a:r>
              <a:rPr b="1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scenarios for a</a:t>
            </a:r>
            <a:r>
              <a:rPr b="0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1eb7"/>
                </a:solidFill>
                <a:latin typeface="Arial"/>
                <a:ea typeface="Times New Roman"/>
              </a:rPr>
              <a:t>sustainable cooperation beyond 2009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001eb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>
              <a:buClr>
                <a:srgbClr val="001eb7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00600"/>
            <a:ext cx="9144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1eb7"/>
                </a:solidFill>
                <a:latin typeface="Arial Unicode MS"/>
                <a:ea typeface="Arial Unicode MS"/>
              </a:rPr>
              <a:t> </a:t>
            </a:r>
            <a:endParaRPr b="0" lang="en-US" sz="10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BF77-9EE1-4E40-B7A3-B6485F264D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0000" y="50652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SEE-ERA.NET contact details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0000" y="1598400"/>
            <a:ext cx="35319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7d19"/>
                </a:solidFill>
                <a:latin typeface="Arial"/>
              </a:rPr>
              <a:t>Peter B. Mayr, Coordinator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Centre for Social Innovation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Linke Wienzeile 246</a:t>
            </a: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1150 Vienna, Austri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pmayr@zsi.at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phone: + 43 1 49 50 442 75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mobile: + 43 699 114 802 8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fax: </a:t>
            </a: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5f5f5f"/>
                </a:solidFill>
                <a:latin typeface="Arial"/>
              </a:rPr>
              <a:t>+ 43 1 49 50 442 4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e7a0e"/>
                </a:solidFill>
                <a:latin typeface="Arial"/>
              </a:rPr>
              <a:t>www.see-era.net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4EE5-F9E0-4986-8F4B-FA95C6E8F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1680" y="1204920"/>
            <a:ext cx="85017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b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ature shows us the way: Birds coordinating their efforts</a:t>
            </a:r>
            <a:endParaRPr b="0" lang="en-US" sz="2400" spc="-1" strike="noStrike">
              <a:solidFill>
                <a:srgbClr val="001eb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eb7"/>
              </a:solidFill>
              <a:latin typeface="Arial"/>
            </a:endParaRPr>
          </a:p>
        </p:txBody>
      </p:sp>
      <p:pic>
        <p:nvPicPr>
          <p:cNvPr id="86" name="" descr="Gänse in Keilformation"/>
          <p:cNvPicPr/>
          <p:nvPr/>
        </p:nvPicPr>
        <p:blipFill>
          <a:blip r:embed="rId1"/>
          <a:stretch/>
        </p:blipFill>
        <p:spPr>
          <a:xfrm>
            <a:off x="5076720" y="2705040"/>
            <a:ext cx="3967200" cy="26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79280" y="2684520"/>
          <a:ext cx="3961080" cy="26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84520"/>
                    <a:ext cx="39610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211640" y="3429000"/>
            <a:ext cx="793800" cy="1512720"/>
          </a:xfrm>
          <a:custGeom>
            <a:avLst/>
            <a:gdLst>
              <a:gd name="textAreaLeft" fmla="*/ 123840 w 793800"/>
              <a:gd name="textAreaRight" fmla="*/ 694800 w 79380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1eb7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3600" y="5718240"/>
            <a:ext cx="39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71 % gain of efficiency</a:t>
            </a:r>
            <a:endParaRPr b="0" lang="en-US" sz="2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692280"/>
            <a:ext cx="7480080" cy="106884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ordination of national Programmes</a:t>
            </a:r>
            <a:endParaRPr b="0" lang="en-US" sz="3200" spc="-1" strike="noStrike">
              <a:solidFill>
                <a:srgbClr val="001eb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RA-NET</a:t>
            </a:r>
            <a:endParaRPr b="0" lang="en-US" sz="32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B542-393C-45AF-8AC3-9CE10B8F4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7840" y="557280"/>
            <a:ext cx="79167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The Southeast European Era-Net consortium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313160" y="1068480"/>
            <a:ext cx="3971880" cy="4171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4440" y="1093320"/>
            <a:ext cx="7715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lbania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ustri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osnia &amp; Herzegovin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ulgari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roati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France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Germany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Greece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ungary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Former Yugoslav Republic of Macedonia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ontenegro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omani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rbia,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nd Slovenia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4129-55A7-4761-8983-B0FDF7508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280" y="533520"/>
            <a:ext cx="79167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The Southeast European Era-Net consortium I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313160" y="1068480"/>
            <a:ext cx="3971880" cy="4171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2760" y="963720"/>
            <a:ext cx="894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fe7d1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Albanian Ministry of Education and Scie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fe7d1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inistry for Education, Science and Culture in Austria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fe7d1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Centre for Social Innovation in Austria, SEE-ERA.NET Co-ordinator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inistry of Foreign Affairs in Bosnia and Herzegovina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Bulgarian Ministry for Education and Scie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inistry of Science, Education and Sports in Croatia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inistry of Foreign Affairs in Fra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Centre National de la Recherche Scientifique in Fra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A98F-1B75-4D42-8408-8CD4EF705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9360" y="596520"/>
            <a:ext cx="79167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The Southeast European Era-Net consortium II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313160" y="1068480"/>
            <a:ext cx="3971880" cy="4171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1640" y="1359000"/>
            <a:ext cx="88776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Federal Ministry of Education and Research in Germany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International Bureau of the Ministry of Education and Research, Germany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Greek Ministry of Development: General Secretariat for Research &amp; Technology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Hungarian National Office of Research and Technology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acedonian Ministry of Education and Science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Ministry of Education and Science in Montenegro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Romanian Ministry of Education and Research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Serbian Ministry for Science and Environmental Protection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ee7a0e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5f5f5f"/>
                </a:solidFill>
                <a:latin typeface="Arial"/>
              </a:rPr>
              <a:t>Slovenian Ministry of Higher Education, Science and Technology</a:t>
            </a:r>
            <a:endParaRPr b="0" lang="en-US" sz="1800" spc="-1" strike="noStrike">
              <a:solidFill>
                <a:srgbClr val="001e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1460-70B9-40B6-9127-3DB3DAE22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12440" y="3725640"/>
            <a:ext cx="8278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14 countries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14 ministries &amp; 3 funding agencies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more than 70 inter-governmental agreements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several thousands of institutional contacts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838080" indent="-380880" algn="just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  <a:ea typeface="Times New Roman"/>
              </a:rPr>
              <a:t>1.400 projects funded (2002-2004, bilateral programm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90320" y="37908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1. The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7"/>
                </a:solidFill>
                <a:latin typeface="Arial"/>
              </a:rPr>
              <a:t>starting point: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54440" y="739800"/>
          <a:ext cx="4489560" cy="3651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4440" y="739800"/>
                    <a:ext cx="448956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4489-710B-42EF-B760-77A59199EE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64720" y="1874880"/>
            <a:ext cx="8278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In general, all of the participating SEE-ERA.NET partner countries wish to increase their own competetivness through the development of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838080" indent="-380880" algn="just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information technologies and their application in all sectors of socie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-380880" algn="just">
              <a:lnSpc>
                <a:spcPct val="130000"/>
              </a:lnSpc>
              <a:buClr>
                <a:srgbClr val="ee7a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promote the creation of new technologies – new markets – new job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838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The Western Balkan countries 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common objectives: restruction of RTD and traditional industry sectors by using technology transfer to catch up (amongst other things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low R&amp;D expenditure on national level,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hardly any access to other multilateral funding sources (e.g. offered by the EC)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90320" y="37908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1. The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7"/>
                </a:solidFill>
                <a:latin typeface="Arial"/>
              </a:rPr>
              <a:t>starting point: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379C-66F5-433A-8361-7A966BE91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64720" y="1351080"/>
            <a:ext cx="82789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Most of 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the bilateral research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was/is done at 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higher education institutions / universities 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in the WB countries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The 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main driving force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of SEE-ERA.NET partners bilateral projects was to </a:t>
            </a:r>
            <a:r>
              <a:rPr b="1" lang="en-GB" sz="1600" spc="-1" strike="noStrike" u="sng">
                <a:solidFill>
                  <a:srgbClr val="777777"/>
                </a:solidFill>
                <a:uFillTx/>
                <a:latin typeface="Arial"/>
                <a:ea typeface="Times New Roman"/>
              </a:rPr>
              <a:t>re-</a:t>
            </a: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integrate the scientific community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into the European Research Area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SWOT analysis</a:t>
            </a: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 of - nationally funded - bilateral programmes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there is a joint need for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improving project application systems to even more independent, internal evaluation peer reviewing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buClr>
                <a:srgbClr val="fe7d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ex-post evaluation on project and programme level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marL="3808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source: Maria Hinsenkamp (NKTH, Zagreb 2005): National RTD programmes for Southeast Europe – A Comparative Summary Report; SEE-ERA.NET report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90320" y="379080"/>
            <a:ext cx="7916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1eb9"/>
                </a:solidFill>
                <a:latin typeface="Arial"/>
              </a:rPr>
              <a:t>1. The </a:t>
            </a:r>
            <a:r>
              <a:rPr b="1" lang="en-AU" sz="2400" spc="-1" strike="noStrike">
                <a:solidFill>
                  <a:srgbClr val="fe7d19"/>
                </a:solidFill>
                <a:latin typeface="Arial"/>
              </a:rPr>
              <a:t>SEE-ERA.NET </a:t>
            </a:r>
            <a:r>
              <a:rPr b="1" lang="en-AU" sz="2400" spc="-1" strike="noStrike">
                <a:solidFill>
                  <a:srgbClr val="001eb7"/>
                </a:solidFill>
                <a:latin typeface="Arial"/>
              </a:rPr>
              <a:t>starting point:</a:t>
            </a:r>
            <a:endParaRPr b="1" lang="en-US" sz="2400" spc="-1" strike="noStrike">
              <a:solidFill>
                <a:srgbClr val="001e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B54E-279A-49C7-8EDB-F2DDBD2739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8:39:48Z</dcterms:created>
  <dc:creator/>
  <dc:description/>
  <dc:language>en-US</dc:language>
  <cp:lastModifiedBy>Peter Mayr</cp:lastModifiedBy>
  <dcterms:modified xsi:type="dcterms:W3CDTF">2006-09-29T06:42:43Z</dcterms:modified>
  <cp:revision>110</cp:revision>
  <dc:subject/>
  <dc:title>See-Era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216615</vt:r8>
  </property>
  <property fmtid="{D5CDD505-2E9C-101B-9397-08002B2CF9AE}" pid="3" name="_AuthorEmail">
    <vt:lpwstr>Manfred.Spiesberger@intas.be</vt:lpwstr>
  </property>
  <property fmtid="{D5CDD505-2E9C-101B-9397-08002B2CF9AE}" pid="4" name="_AuthorEmailDisplayName">
    <vt:lpwstr>Manfred Spiesberger</vt:lpwstr>
  </property>
  <property fmtid="{D5CDD505-2E9C-101B-9397-08002B2CF9AE}" pid="5" name="_EmailSubject">
    <vt:lpwstr>Praesentation Mag. Mayr Peter</vt:lpwstr>
  </property>
  <property fmtid="{D5CDD505-2E9C-101B-9397-08002B2CF9AE}" pid="6" name="_NewReviewCycle">
    <vt:lpwstr/>
  </property>
  <property fmtid="{D5CDD505-2E9C-101B-9397-08002B2CF9AE}" pid="7" name="_PreviousAdHocReviewCycleID">
    <vt:r8>-2017305592</vt:r8>
  </property>
</Properties>
</file>