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07A-7EB0-4D40-A951-D983095E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799-80AF-4E27-80B7-637B1F03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0BB-2AB5-437A-8BA2-77A64D8A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871-3EBC-4737-976F-E8D8310E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2180-927A-4E35-BBFC-75DB6EE3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4B6CE-7BC8-443F-B5C5-364E51B1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1962-1F5B-4BCF-9E2D-431ABFE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C5EC-0EB1-4914-9991-C6185736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6F93C-1331-4112-85FE-2CAD25EB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7B62E-156B-4A6E-9D6C-3F766FA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560CB-37B3-44FB-A647-8167E80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E29-BB76-4C40-8533-022B057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0D45C-B4CE-41C0-9921-FD29057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518CE-3F29-47C1-9717-B772D037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E19EF-91DF-4C97-83D2-2F02F22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96C5B-1C33-4218-8FDD-537F7152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A1BB-EC4B-4693-AEE6-86C81D64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E05-E203-4AA4-885C-FEDC1B3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F7E-68D6-46F2-BFA9-E67ACB6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303-6485-4D1E-9110-AA23347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9AB-ECAB-45E1-ACDF-CDE5F968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BE0-0E3F-411E-AF18-68D8D48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453-9DD3-4495-BD8B-96BBBA0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C0E-804B-4F1A-9C4C-35881A8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A0A-E3D8-48DC-80D6-0883288D84B6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3C4-B635-41B9-AA2B-2B448688988D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‘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U – Balkan countries Action Plan in S&amp;T’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s, weaknesses and ways forward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. George BO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Secretariat for Research and Technology (GS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ction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dopted WBC, EU-MS, C.C., EC at Ministerial level in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ain fields of interven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newal of infrastructur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mprovement of Human Potenti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stitution building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oint RTD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uration 3 years; No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pecific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budg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C34-FE46-41C8-A34A-082CD7867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ction Plan: Achiev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ong momentum in S&amp;T coop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olicy oriented initiatives 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E-ERA.NET project, Steering Platform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pecific calls in FP6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Capacity building, joint RTD, etc.)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veral projects on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e-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nfrastructure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SEEREN, SINSEE, SEE-Grid, etc.)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733-77DF-40D6-96D5-C37BC462A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104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ction Plan: weakne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mited progress on two key issues for the integration of WBC in E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mprovement of infra-structur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structuring of S&amp;T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ain reason: limited and inadequate sources of funding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FP6, Interreg, NATO)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and, in particular, no support from C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F75-A90E-43A7-B3DA-C3668C135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went ‘wrong’ with CARD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ifferent ‘decision making groups’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G RTD, Ministries for Research (EU + W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G Relex, Ministries of Foreign Affairs (EU), Ministries of Finance (WB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ifferent programming period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RDS: 2002 –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ion Plan: 2003 -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516-9AC0-4672-B185-453D224F7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rrent environment and ways forwa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629400" y="2362320"/>
            <a:ext cx="2209680" cy="2971800"/>
            <a:chOff x="6629400" y="2362320"/>
            <a:chExt cx="2209680" cy="2971800"/>
          </a:xfrm>
        </p:grpSpPr>
        <p:grpSp>
          <p:nvGrpSpPr>
            <p:cNvPr id="101" name=""/>
            <p:cNvGrpSpPr/>
            <p:nvPr/>
          </p:nvGrpSpPr>
          <p:grpSpPr>
            <a:xfrm>
              <a:off x="6629400" y="2895480"/>
              <a:ext cx="2209680" cy="1828800"/>
              <a:chOff x="6629400" y="2895480"/>
              <a:chExt cx="2209680" cy="1828800"/>
            </a:xfrm>
          </p:grpSpPr>
          <p:sp>
            <p:nvSpPr>
              <p:cNvPr id="102" name=""/>
              <p:cNvSpPr/>
              <p:nvPr/>
            </p:nvSpPr>
            <p:spPr>
              <a:xfrm>
                <a:off x="6705720" y="3274920"/>
                <a:ext cx="20574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Tahoma"/>
                  </a:rPr>
                  <a:t>Integration of WBC in ER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9400" y="2895480"/>
                <a:ext cx="2209680" cy="1828800"/>
              </a:xfrm>
              <a:prstGeom prst="ellipse">
                <a:avLst/>
              </a:prstGeom>
              <a:noFill/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629400" y="5029200"/>
              <a:ext cx="1600200" cy="304920"/>
            </a:xfrm>
            <a:custGeom>
              <a:avLst/>
              <a:gdLst>
                <a:gd name="textAreaLeft" fmla="*/ 660240 w 1600200"/>
                <a:gd name="textAreaRight" fmla="*/ 1359000 w 1600200"/>
                <a:gd name="textAreaTop" fmla="*/ 171720 h 304920"/>
                <a:gd name="textAreaBottom" fmla="*/ 2592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28"/>
                  </a:moveTo>
                  <a:lnTo>
                    <a:pt x="12171" y="15428"/>
                  </a:lnTo>
                  <a:lnTo>
                    <a:pt x="12171" y="8914"/>
                  </a:lnTo>
                  <a:lnTo>
                    <a:pt x="8914" y="8914"/>
                  </a:lnTo>
                  <a:lnTo>
                    <a:pt x="15257" y="0"/>
                  </a:lnTo>
                  <a:lnTo>
                    <a:pt x="21600" y="8914"/>
                  </a:lnTo>
                  <a:lnTo>
                    <a:pt x="18343" y="8914"/>
                  </a:lnTo>
                  <a:lnTo>
                    <a:pt x="18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629400" y="2362320"/>
              <a:ext cx="1600200" cy="304560"/>
            </a:xfrm>
            <a:custGeom>
              <a:avLst/>
              <a:gdLst>
                <a:gd name="textAreaLeft" fmla="*/ 662040 w 1600200"/>
                <a:gd name="textAreaRight" fmla="*/ 1382040 w 1600200"/>
                <a:gd name="textAreaTop" fmla="*/ 168120 h 304560"/>
                <a:gd name="textAreaBottom" fmla="*/ 2635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830"/>
                  </a:moveTo>
                  <a:lnTo>
                    <a:pt x="11884" y="14830"/>
                  </a:lnTo>
                  <a:lnTo>
                    <a:pt x="11884" y="8938"/>
                  </a:lnTo>
                  <a:lnTo>
                    <a:pt x="8938" y="8938"/>
                  </a:lnTo>
                  <a:lnTo>
                    <a:pt x="15269" y="0"/>
                  </a:lnTo>
                  <a:lnTo>
                    <a:pt x="21600" y="8938"/>
                  </a:lnTo>
                  <a:lnTo>
                    <a:pt x="18654" y="8938"/>
                  </a:lnTo>
                  <a:lnTo>
                    <a:pt x="1865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0880" y="1981080"/>
            <a:ext cx="2362320" cy="3962520"/>
            <a:chOff x="380880" y="1981080"/>
            <a:chExt cx="2362320" cy="396252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981080"/>
              <a:ext cx="2362320" cy="1828800"/>
              <a:chOff x="380880" y="1981080"/>
              <a:chExt cx="2362320" cy="182880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981080"/>
                <a:ext cx="236232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ahoma"/>
                  </a:rPr>
                  <a:t>Instrument for Pre-Accession (IPA)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200" y="1981080"/>
                <a:ext cx="2286000" cy="182880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33520" y="4495680"/>
              <a:ext cx="2133360" cy="1447920"/>
              <a:chOff x="533520" y="4495680"/>
              <a:chExt cx="2133360" cy="1447920"/>
            </a:xfrm>
          </p:grpSpPr>
          <p:sp>
            <p:nvSpPr>
              <p:cNvPr id="111" name=""/>
              <p:cNvSpPr/>
              <p:nvPr/>
            </p:nvSpPr>
            <p:spPr>
              <a:xfrm>
                <a:off x="762120" y="4616280"/>
                <a:ext cx="1600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ahoma"/>
                  </a:rPr>
                  <a:t>FP7 for RTD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4495680"/>
                <a:ext cx="2133360" cy="144792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124080" y="1981080"/>
            <a:ext cx="2743200" cy="4114800"/>
            <a:chOff x="3124080" y="1981080"/>
            <a:chExt cx="2743200" cy="4114800"/>
          </a:xfrm>
        </p:grpSpPr>
        <p:grpSp>
          <p:nvGrpSpPr>
            <p:cNvPr id="114" name=""/>
            <p:cNvGrpSpPr/>
            <p:nvPr/>
          </p:nvGrpSpPr>
          <p:grpSpPr>
            <a:xfrm>
              <a:off x="3200400" y="1981080"/>
              <a:ext cx="2666880" cy="2098800"/>
              <a:chOff x="3200400" y="1981080"/>
              <a:chExt cx="2666880" cy="2098800"/>
            </a:xfrm>
          </p:grpSpPr>
          <p:sp>
            <p:nvSpPr>
              <p:cNvPr id="115" name=""/>
              <p:cNvSpPr/>
              <p:nvPr/>
            </p:nvSpPr>
            <p:spPr>
              <a:xfrm>
                <a:off x="3429000" y="2057400"/>
                <a:ext cx="2286000" cy="20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Res. Infr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Restructuring S&amp;T system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00400" y="1981080"/>
                <a:ext cx="304920" cy="167652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2720" y="1981080"/>
                <a:ext cx="304560" cy="16765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343"/>
                    </a:lnTo>
                    <a:cubicBezTo>
                      <a:pt x="10800" y="10243"/>
                      <a:pt x="16200" y="11143"/>
                      <a:pt x="21600" y="11143"/>
                    </a:cubicBezTo>
                    <a:cubicBezTo>
                      <a:pt x="16200" y="11143"/>
                      <a:pt x="10800" y="12043"/>
                      <a:pt x="10800" y="12943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124080" y="4419720"/>
              <a:ext cx="2667240" cy="1676160"/>
              <a:chOff x="3124080" y="4419720"/>
              <a:chExt cx="2667240" cy="1676160"/>
            </a:xfrm>
          </p:grpSpPr>
          <p:sp>
            <p:nvSpPr>
              <p:cNvPr id="119" name=""/>
              <p:cNvSpPr/>
              <p:nvPr/>
            </p:nvSpPr>
            <p:spPr>
              <a:xfrm>
                <a:off x="3429000" y="4554360"/>
                <a:ext cx="22096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Joint RTD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Mobility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4419720"/>
                <a:ext cx="304920" cy="167616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43560 h 1676160"/>
                  <a:gd name="textAreaBottom" fmla="*/ 163260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86400" y="4419720"/>
                <a:ext cx="304920" cy="1676160"/>
              </a:xfrm>
              <a:custGeom>
                <a:avLst/>
                <a:gdLst>
                  <a:gd name="textAreaLeft" fmla="*/ 0 w 304920"/>
                  <a:gd name="textAreaRight" fmla="*/ 110160 w 304920"/>
                  <a:gd name="textAreaTop" fmla="*/ 43560 h 1676160"/>
                  <a:gd name="textAreaBottom" fmla="*/ 163260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343"/>
                    </a:lnTo>
                    <a:cubicBezTo>
                      <a:pt x="10800" y="10243"/>
                      <a:pt x="16200" y="11143"/>
                      <a:pt x="21600" y="11143"/>
                    </a:cubicBezTo>
                    <a:cubicBezTo>
                      <a:pt x="16200" y="11143"/>
                      <a:pt x="10800" y="12043"/>
                      <a:pt x="10800" y="12943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BA3-B27F-4C2E-B2EC-2CB83F70A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 be successfu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ion at 3 lev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uropean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G RTD; DG Enlar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U Member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inistries for Research; Ministries ‘for IPA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ast but not least: W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ound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proposals from Ministries for Research to Ministries of Finance, which finalize the list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National pri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974-E374-4070-84E2-007FB8948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The stakeholders are aware of the need to support S&amp;T for the integration in ERA and as a tool for economic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New instruments will be in place in few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…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Can we be optimisti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486400"/>
            <a:ext cx="6858000" cy="914400"/>
          </a:xfrm>
          <a:custGeom>
            <a:avLst/>
            <a:gdLst>
              <a:gd name="textAreaLeft" fmla="*/ 0 w 6858000"/>
              <a:gd name="textAreaRight" fmla="*/ 6858360 w 68580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55260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Bonas, Ljubljana - S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0CB-E6BC-4183-9FBB-5D52E4233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10:32Z</dcterms:created>
  <dc:creator>dfilippidis</dc:creator>
  <dc:description/>
  <dc:language>en-US</dc:language>
  <cp:lastModifiedBy>User</cp:lastModifiedBy>
  <dcterms:modified xsi:type="dcterms:W3CDTF">2006-09-22T13:58:33Z</dcterms:modified>
  <cp:revision>39</cp:revision>
  <dc:subject/>
  <dc:title>Slide 1</dc:title>
</cp:coreProperties>
</file>