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791700" cy="1418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5640" y="3844800"/>
            <a:ext cx="4800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564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552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08880" y="213336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31760" y="213336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5640" y="384480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08880" y="384480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31760" y="384480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8080" y="1066680"/>
            <a:ext cx="6553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564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4552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5640" y="3844800"/>
            <a:ext cx="4800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285640" y="3844800"/>
            <a:ext cx="4800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564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4552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08880" y="213336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31760" y="213336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285640" y="384480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908880" y="384480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531760" y="3844800"/>
            <a:ext cx="154548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1066680"/>
            <a:ext cx="6553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564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5520" y="384480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5520" y="2133360"/>
            <a:ext cx="234252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5640" y="3844800"/>
            <a:ext cx="4800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43080" indent="-34308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343080" indent="-34308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343080" indent="-34308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343080" indent="-34308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5"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6"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3447" t="13852" r="6901" b="0"/>
          <a:stretch/>
        </p:blipFill>
        <p:spPr>
          <a:xfrm>
            <a:off x="7391520" y="3240"/>
            <a:ext cx="17524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638680" y="1522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b2b2"/>
                </a:solidFill>
                <a:latin typeface="Arial Black"/>
              </a:rPr>
              <a:t>www.unido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-3240"/>
            <a:ext cx="4983120" cy="704880"/>
            <a:chOff x="0" y="-3240"/>
            <a:chExt cx="4983120" cy="704880"/>
          </a:xfrm>
        </p:grpSpPr>
        <p:pic>
          <p:nvPicPr>
            <p:cNvPr id="6" name="" descr=""/>
            <p:cNvPicPr/>
            <p:nvPr/>
          </p:nvPicPr>
          <p:blipFill>
            <a:blip r:embed="rId3"/>
            <a:srcRect l="0" t="0" r="19066" b="0"/>
            <a:stretch/>
          </p:blipFill>
          <p:spPr>
            <a:xfrm>
              <a:off x="3222720" y="0"/>
              <a:ext cx="85068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rcRect l="7590" t="0" r="15180" b="0"/>
            <a:stretch/>
          </p:blipFill>
          <p:spPr>
            <a:xfrm>
              <a:off x="1600200" y="-3240"/>
              <a:ext cx="81756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rcRect l="0" t="17118" r="0" b="8559"/>
            <a:stretch/>
          </p:blipFill>
          <p:spPr>
            <a:xfrm>
              <a:off x="4065480" y="0"/>
              <a:ext cx="917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rcRect l="2386" t="0" r="0" b="0"/>
            <a:stretch/>
          </p:blipFill>
          <p:spPr>
            <a:xfrm>
              <a:off x="784080" y="0"/>
              <a:ext cx="8161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rcRect l="0" t="0" r="9052" b="0"/>
            <a:stretch/>
          </p:blipFill>
          <p:spPr>
            <a:xfrm>
              <a:off x="2417760" y="0"/>
              <a:ext cx="80496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rcRect l="22663" t="0" r="7554" b="5706"/>
            <a:stretch/>
          </p:blipFill>
          <p:spPr>
            <a:xfrm>
              <a:off x="0" y="0"/>
              <a:ext cx="787320" cy="701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787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3447" t="13852" r="6901" b="0"/>
          <a:stretch/>
        </p:blipFill>
        <p:spPr>
          <a:xfrm>
            <a:off x="7391520" y="3240"/>
            <a:ext cx="1752480" cy="126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3619440" y="4267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522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b2b2"/>
                </a:solidFill>
                <a:latin typeface="Arial Black"/>
              </a:rPr>
              <a:t>www.unido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0"/>
            <a:ext cx="4983120" cy="704880"/>
            <a:chOff x="0" y="0"/>
            <a:chExt cx="4983120" cy="70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rcRect l="0" t="0" r="19066" b="0"/>
            <a:stretch/>
          </p:blipFill>
          <p:spPr>
            <a:xfrm>
              <a:off x="3222720" y="3240"/>
              <a:ext cx="85068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rcRect l="7590" t="0" r="15180" b="0"/>
            <a:stretch/>
          </p:blipFill>
          <p:spPr>
            <a:xfrm>
              <a:off x="1600200" y="0"/>
              <a:ext cx="81756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rcRect l="0" t="17118" r="0" b="8559"/>
            <a:stretch/>
          </p:blipFill>
          <p:spPr>
            <a:xfrm>
              <a:off x="4065480" y="3240"/>
              <a:ext cx="917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rcRect l="2386" t="0" r="0" b="0"/>
            <a:stretch/>
          </p:blipFill>
          <p:spPr>
            <a:xfrm>
              <a:off x="784080" y="3240"/>
              <a:ext cx="8161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rcRect l="0" t="0" r="9052" b="0"/>
            <a:stretch/>
          </p:blipFill>
          <p:spPr>
            <a:xfrm>
              <a:off x="2417760" y="3240"/>
              <a:ext cx="80496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8"/>
            <a:srcRect l="22663" t="0" r="7554" b="5706"/>
            <a:stretch/>
          </p:blipFill>
          <p:spPr>
            <a:xfrm>
              <a:off x="0" y="3240"/>
              <a:ext cx="787320" cy="7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nido.org/" TargetMode="External"/><Relationship Id="rId2" Type="http://schemas.openxmlformats.org/officeDocument/2006/relationships/hyperlink" Target="http://www.unido.org/" TargetMode="External"/><Relationship Id="rId3" Type="http://schemas.openxmlformats.org/officeDocument/2006/relationships/hyperlink" Target="mailto:unido@unido.or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19066" b="0"/>
          <a:stretch/>
        </p:blipFill>
        <p:spPr>
          <a:xfrm>
            <a:off x="6014880" y="0"/>
            <a:ext cx="1622520" cy="133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7590" t="0" r="15180" b="0"/>
          <a:stretch/>
        </p:blipFill>
        <p:spPr>
          <a:xfrm>
            <a:off x="3005280" y="0"/>
            <a:ext cx="2011320" cy="133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0" t="17118" r="8782" b="8559"/>
          <a:stretch/>
        </p:blipFill>
        <p:spPr>
          <a:xfrm>
            <a:off x="7605720" y="0"/>
            <a:ext cx="1536840" cy="12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0" t="0" r="9052" b="0"/>
          <a:stretch/>
        </p:blipFill>
        <p:spPr>
          <a:xfrm>
            <a:off x="4518000" y="0"/>
            <a:ext cx="1522440" cy="1328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rcRect l="2386" t="0" r="0" b="0"/>
          <a:stretch/>
        </p:blipFill>
        <p:spPr>
          <a:xfrm>
            <a:off x="1482840" y="0"/>
            <a:ext cx="1539720" cy="132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rcRect l="22663" t="0" r="7554" b="5706"/>
          <a:stretch/>
        </p:blipFill>
        <p:spPr>
          <a:xfrm>
            <a:off x="0" y="0"/>
            <a:ext cx="148608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934320" y="6095880"/>
            <a:ext cx="1847880" cy="39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rcRect l="9167" t="52450" r="5836" b="0"/>
          <a:stretch/>
        </p:blipFill>
        <p:spPr>
          <a:xfrm>
            <a:off x="0" y="1143000"/>
            <a:ext cx="9144000" cy="394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487520" y="-360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457200" y="5715000"/>
            <a:ext cx="4572000" cy="966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3019320" y="-36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25920" y="-360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040440" y="-360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12200" y="-360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Share of MHT goods in manufactured exports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50920" y="1998720"/>
          <a:ext cx="7167600" cy="42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998720"/>
                    <a:ext cx="7167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901800" y="6234120"/>
            <a:ext cx="56005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ource: Industrial Development Report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HT: Medium- and High-Te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Key issues for technological development and management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overnment/institutional leadership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research ba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bility to attract/retain key peopl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ccess to capit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ccess to infrastructu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repreneurial cultur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tection of IP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nergies and mutual reinforcemen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onal coopera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863640" y="637524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UNIDO internal report “Success factors for biotechnology – An assessment of the status of China’s innovatio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UNIDO and technology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port to alleviate some of the problems faced by developing countries and countries in transition  in mobilizing domestic and foreign investment as well as modern technologie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06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06440" indent="-343080" algn="just">
              <a:spcBef>
                <a:spcPts val="400"/>
              </a:spcBef>
              <a:buClr>
                <a:srgbClr val="ffcc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rvices for strengthening national technology   management system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406440" indent="-343080" algn="just">
              <a:spcBef>
                <a:spcPts val="400"/>
              </a:spcBef>
              <a:buClr>
                <a:srgbClr val="ffcc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hnology foresight for developm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Selected examples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gional Initiative on Technology Foresight for Central and Eastern Europe (CEE) and the Newly Independent States (NIS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ransfer of Environmentally Sound Technology in the Danube River Basi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mplementation of an Environmental International Convention (Montreal Protocol) in Albania, Bosnia and Herzegovina, Romania, FRY Macedon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echnology seems to play an important role in the output per capita gap between advanced and developing countries and countries in transi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IDO potential partner for SEE countries in the field of Technolog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urther activities possible either directly (UNIDO and other UN sister Organizations) or through existing mechanisms (EC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NIDO’s website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 Unicode MS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 Unicode MS"/>
                <a:hlinkClick r:id="rId2"/>
              </a:rPr>
              <a:t>www.unido.or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act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 Unicode MS"/>
                <a:hlinkClick r:id="rId3"/>
              </a:rPr>
              <a:t>unido@unido.or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7878"/>
                </a:solidFill>
                <a:latin typeface="Arial"/>
              </a:rPr>
              <a:t>Science, technology and industrial development</a:t>
            </a:r>
            <a:endParaRPr b="1" lang="en-US" sz="36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Jaime Moll de Alba Cabo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gramme Coordination and Field Operation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search and Statistic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9/09/200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earch on productiv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IDO and technolog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ed activities in SE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Research on productivity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3040" y="1638360"/>
            <a:ext cx="4800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search on productivity in developing countr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n-going work to assess and rank main supply-side constraints in developing countr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distance to the world technology frontier gauged (112 countries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udies of determinants/constraints to inform about how to “quickest” close the gap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eliminary results point to four key areas for international organizations: Infrastructure; Human capital; Foreign direct investment; International trad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290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Research on productivity #2 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4800600" cy="37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ext step: assessing the importance of health, energy/environment, institutions and geography/initial condit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t one but a set of factors determine productivity levels and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creases in productivity require both new technology and improvements in technical efficiency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orld Productivity Database, 1960-200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re countries might be adde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25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Industrial Development Scoreboard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1960" y="2158920"/>
            <a:ext cx="4800600" cy="337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nalytical framework to assess and compare selected critical indicators of industrial performance and capabiliti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posite index to benchmark competitive industrial activity at the country leve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uctural factors expected to affect industrial performan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90000"/>
              </a:lnSpc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re detailed analyses are to follow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Knowledge and S&amp;T are key compon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150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Competitive Industrial Performance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@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876240" y="6278400"/>
            <a:ext cx="386100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ource: Industrial Development Report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IP: Competitive Industrial Performance Ind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83320" y="2120760"/>
          <a:ext cx="2114640" cy="41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3320" y="2120760"/>
                    <a:ext cx="21146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276720" y="1968480"/>
          <a:ext cx="1841400" cy="279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968480"/>
                    <a:ext cx="18414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65160" y="1803240"/>
            <a:ext cx="1663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Competitive Industrial Performance: determinants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5640" y="21333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@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3080" y="1943280"/>
          <a:ext cx="1777680" cy="154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943280"/>
                    <a:ext cx="1777680" cy="15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184480" y="2260440"/>
          <a:ext cx="2019240" cy="1981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2260440"/>
                    <a:ext cx="20192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369120" y="3517920"/>
          <a:ext cx="2019240" cy="2413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9120" y="3517920"/>
                    <a:ext cx="201924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254480" y="3174840"/>
          <a:ext cx="2019240" cy="15368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54480" y="3174840"/>
                    <a:ext cx="20192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57200" y="5913360"/>
            <a:ext cx="848376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ource: Industrial Development Report 2002/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BERD pc: productive enterprise-financed R&amp;D per capita , FDI pc: Foreign Direct Investment inflows per capita, Royalties pc: Royalties and licence payments abroad per capita, Tertiary technical enrolments as a share of population include pure science, mathematics and computing and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7878"/>
                </a:solidFill>
                <a:latin typeface="Arial"/>
              </a:rPr>
              <a:t>Share of MHT activities in MVA</a:t>
            </a:r>
            <a:endParaRPr b="1" lang="en-US" sz="3200" spc="-1" strike="noStrike">
              <a:solidFill>
                <a:srgbClr val="787878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01600" y="1720800"/>
          <a:ext cx="7396200" cy="42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720800"/>
                    <a:ext cx="73962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01800" y="6234120"/>
            <a:ext cx="56005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ource: Industrial Development Report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HT: Medium- and High-Tech, MVA: Manufacturing Added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0:51:00Z</dcterms:created>
  <dc:creator>paul kern</dc:creator>
  <dc:description/>
  <dc:language>en-US</dc:language>
  <cp:lastModifiedBy>Davor Kozmus</cp:lastModifiedBy>
  <dcterms:modified xsi:type="dcterms:W3CDTF">2006-09-29T06:52:04Z</dcterms:modified>
  <cp:revision>127</cp:revision>
  <dc:subject/>
  <dc:title> [Project Name] Post-Mortem</dc:title>
</cp:coreProperties>
</file>