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534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13064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981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523880"/>
            <a:ext cx="8534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08720" y="6524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fred Horvat,  Austria     </a:t>
            </a:r>
            <a:fld id="{658D2A3B-0341-411D-99EC-331AA4F0E9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From the EU-WBC Action Plan to the full integration of the WBC into the EU RTD activities</a:t>
            </a:r>
            <a:br>
              <a:rPr sz="3600"/>
            </a:br>
            <a:br>
              <a:rPr sz="36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nfred Horva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813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Conference and High-Level Round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Y INVEST IN SCIENCE IN SOUTH EASTERN EURO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&amp; 29 September 2006, Ljubljana, Slov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0560" y="304488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Prof. Manfred Horv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ational Research and Technology Co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nna University of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316160"/>
            <a:ext cx="77756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534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2000 to 2006: What has been achieved so f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ing for FP7: Challenges for the EC, MS and WB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a favourable environment for the WBC in FP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ing the WBC Steering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rom 2000 to 2006: Meetings, meetings …</a:t>
            </a:r>
            <a:br>
              <a:rPr sz="3600"/>
            </a:b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Ministers and High Level Official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835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ienna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ember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IT, BMBWK, EC: HLO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ris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ctober 20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ESCO: Round table of science min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ussels,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ctober 20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C: Regional dialogue EC-W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onn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rch 20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BF: Workshop on S&amp;T cooperation with 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charest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pril 20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ference of S&amp;R ministers from 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ofia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cember 20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ference of S&amp;R ministers from 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brovnik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mber 20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R Science ministry &amp; EC: High level expert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2920" y="169056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ssaloniki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bruary and June 2003,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Greek Presid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gh level officials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sterial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lorence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vember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 Presidency: HLO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ussels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ebruary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LO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BC Workshop in European Parla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ienna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ctober &amp; December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HLO and Ministerial mee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ienna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une 2006,</a:t>
            </a:r>
            <a:br>
              <a:rPr sz="16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strian Presid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unch of the Steer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ynthesis of issues 2000-0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920" y="1125360"/>
            <a:ext cx="4681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n ac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Monitoring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ing R&amp;T policies and systems -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status of WBC in 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Calls &amp; actions for W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awareness and visibility – WBC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 drain: Researcher mobil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ing &amp; renewing the research infrastructure (ICT – linking with GE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, bi-lateral, and European RT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RTD information: NC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ing industry in EU R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1640" y="1485720"/>
            <a:ext cx="441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better synergies between FP, JRC, CARDS, EIB, EBRD, Stability Pact, SECI, UNESCO, COST, EUREKA,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matic priority ar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echnologies for economic re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 sciences, civi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,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, integrated management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o-economic research and huma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evelopments from 2000 to 2006</a:t>
            </a:r>
            <a:br>
              <a:rPr sz="32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What has been achieved so far?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47492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 stable committed community: WBC &amp; MS &amp; 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mediate results in FP6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ccesses in FP6 I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me successes in Thematic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ly in STR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eat difficulties to get involved in IPs or N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ortant role of CAs and S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E ERA-NET, ERA-WESTBAL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most no success in Marie Curie Sche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tically no involvement of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involvement of S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BC participation below expectation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etting prepared for FP7</a:t>
            </a:r>
            <a:br>
              <a:rPr sz="32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hallenges for the EC, Member States and WBC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20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ropean Commiss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imulating integration of international cooperation into FP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ining forces across DGs to solve infrastructur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mber states and candidate count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moting WBC integration in Research Grou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working of programme delegates with WBC collea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CPs: raising awareness on partnering with W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stern Balkan Count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apting R&amp;T systems and policies to EU RT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ising and developing the NCP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ising awareness and spreading information on FP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bilising WBC industry for EU RT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reasing visibility of WBC RTD cooper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15920"/>
            <a:ext cx="8659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teering Platform on Research for the WBC</a:t>
            </a:r>
            <a:br>
              <a:rPr sz="32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 sustainable platform for supporting WBC integ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85720"/>
            <a:ext cx="853416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ng 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BC Steering Platfor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stable and efficient organisational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the interaction between WBC, MS, AS, 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as think tank and motor for WBC integration into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and promoting needs and demands of the W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input for FP7 Work Programmes and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ng synergies between FP7 and other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ing interaction, cooperation, synergies with other WBC f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ing information on experiences and best practice – benchmarking, collaborative learning – joint ac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ing and monitoring the integration of WBC into ERA, including advice for promotion at national levels in MS and W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till EU accession of W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2920" y="115920"/>
            <a:ext cx="8659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teering Platform on Research for the WBC</a:t>
            </a:r>
            <a:br>
              <a:rPr sz="32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 sustainable platform for supporting WBC integ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534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cessary next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uidelines ensuring efficiency and effec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ear commitment from European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from EU Presid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programme with clear priorities for joint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icient communication channels to EC – “research family” and other D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bilisation and awareness in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534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WBC are on the 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bon strategy  provides favourable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Cs contributing to development of 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7: commitment &amp; collaboration from all pa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importance of the WBC Steering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6:16:46Z</dcterms:created>
  <dc:creator> </dc:creator>
  <dc:description/>
  <dc:language>en-US</dc:language>
  <cp:lastModifiedBy>HorvatMa</cp:lastModifiedBy>
  <dcterms:modified xsi:type="dcterms:W3CDTF">2006-09-24T20:03:11Z</dcterms:modified>
  <cp:revision>47</cp:revision>
  <dc:subject/>
  <dc:title>Kein Folientitel</dc:title>
</cp:coreProperties>
</file>