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DAF6-C5AF-4EC4-BE83-4210F60D8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84360" y="1628280"/>
            <a:ext cx="6804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4360" y="3977640"/>
            <a:ext cx="6804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9F05-3B80-442A-B503-1AE82AFF8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84360" y="1628280"/>
            <a:ext cx="33202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0960" y="1628280"/>
            <a:ext cx="33202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84360" y="3977640"/>
            <a:ext cx="33202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0960" y="3977640"/>
            <a:ext cx="33202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D34A-6304-4171-95F7-9DAD13CA5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84360" y="1628280"/>
            <a:ext cx="2190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4760" y="1628280"/>
            <a:ext cx="2190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85520" y="1628280"/>
            <a:ext cx="2190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84360" y="3977640"/>
            <a:ext cx="2190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4760" y="3977640"/>
            <a:ext cx="2190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85520" y="3977640"/>
            <a:ext cx="21906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FED0-54DF-475C-9768-8D8568DBF3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84360" y="1628280"/>
            <a:ext cx="68040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FA16-A741-4872-84D7-6198AE6379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84360" y="1628280"/>
            <a:ext cx="6804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CAC6-1E38-4D9C-8704-F96A25378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84360" y="1628280"/>
            <a:ext cx="33202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0960" y="1628280"/>
            <a:ext cx="33202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74E1-11F1-4601-9795-24942AF52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DFFA-9988-4893-9F5B-ACCCEF62C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4E6D-E373-4A98-93C8-8C7F82361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84360" y="1628280"/>
            <a:ext cx="33202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0960" y="1628280"/>
            <a:ext cx="33202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84360" y="3977640"/>
            <a:ext cx="33202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999A-9338-43B1-A0A1-56FBDF8DE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84360" y="1628280"/>
            <a:ext cx="33202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0960" y="1628280"/>
            <a:ext cx="33202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0960" y="3977640"/>
            <a:ext cx="33202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E208-B169-4413-BAFE-1626B674C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84360" y="1628280"/>
            <a:ext cx="33202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0960" y="1628280"/>
            <a:ext cx="33202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84360" y="3977640"/>
            <a:ext cx="6804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66A9-EC89-4C4B-A667-E10C2D40F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84360" y="1628280"/>
            <a:ext cx="6804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519280" y="6165360"/>
            <a:ext cx="662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Why Invest in Science in South Eastern Europe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-541440" y="692280"/>
            <a:ext cx="2878200" cy="61657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2340000" y="0"/>
            <a:ext cx="7848720" cy="114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124000" y="1341360"/>
            <a:ext cx="64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UNESCO’s Action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engthen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cientific Capacitie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outh Easter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ulia Nechifor, UNE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 "/>
          <p:cNvPicPr/>
          <p:nvPr/>
        </p:nvPicPr>
        <p:blipFill>
          <a:blip r:embed="rId2"/>
          <a:stretch/>
        </p:blipFill>
        <p:spPr>
          <a:xfrm>
            <a:off x="2050920" y="2349360"/>
            <a:ext cx="6545520" cy="3548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96720" y="1484280"/>
            <a:ext cx="6671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Gelato Federation -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Linux on Itan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users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for the purpose of fostering Itanium-specific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3645000"/>
            <a:ext cx="8654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0560" y="1413000"/>
            <a:ext cx="5185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. Guidelines for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Science Policy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Bosnia and Herzeg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apid response to national authorities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xpert mapping of the R&amp;D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mportant added value: brought together decision-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380360" y="3429000"/>
            <a:ext cx="14824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0560" y="1341000"/>
            <a:ext cx="4753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. Needs assessment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. Science, Technolgy and Economic Development in SEE (October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 Guidelines for Science &amp; Reserach Policy in SEE (March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. Accessing and Disseminating Scientific Information in SEE (Sept.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.4. Science Statistics and Indicators in SEE (Oct.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.5 Proceedings ‘Why Invest in Science in SEE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uidelines-medium3.jpg"/>
          <p:cNvPicPr/>
          <p:nvPr/>
        </p:nvPicPr>
        <p:blipFill>
          <a:blip r:embed="rId2"/>
          <a:stretch/>
        </p:blipFill>
        <p:spPr>
          <a:xfrm>
            <a:off x="6948360" y="3357720"/>
            <a:ext cx="1994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6804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. Capacity-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bout 10 regional scientific events/year in basic&amp;environment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raining seminar international Project Management (Ljubljana,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cience Statistics and Indicators Production (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0920" y="1413000"/>
            <a:ext cx="6804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orthcom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ESCO (Venice and Moscow Offices) -ICSU International con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lobal Science and National Policies. The Role of the Academie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4-5 May 2007, Chisinau, Republic of Moldo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eting of th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liamentarians responsible for Scien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from SEE (September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6912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cluding Rema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outh Eastre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omogenous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mun target: join the EU, access major funding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ltiplication of mechanisms/opportunities for support of Science at SEE &amp; pan-European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66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NESCO-BRES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has a major role to play in the reg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al &amp; International brok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learinghouse – best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ng tradition in support to capacity-buiding in S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pacity to mobilise international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rtain flexibility in terms of the development and implementation of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ESCO: preparation of the long term strategy 2008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‘Why Invest in Science’ – new landmark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56000" y="1557360"/>
            <a:ext cx="2782800" cy="3672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12000" y="522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50560" y="1484280"/>
            <a:ext cx="67690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General Framework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G Strategy for Enhancing Coopertaion with South Eastern European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ference on Development and Security in the Adriatic and the Ionian, Ancona, May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igh-level Conference, Paris, April 2002- Adoption of a specific Strategy for Education, Sciences, Culture and Communication in 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early Summits with Presidents of States (Tirana, Sarajevo, Opatja; Sibiu, Romania, June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8000" y="1341360"/>
            <a:ext cx="7236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4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. UNESCO Office in Venice – BRES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6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46000" indent="-846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ience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6000" indent="-846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-operate in Europe with Moscow              Cluster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6000" indent="-846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nce 2000, focus on SE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16360" y="4005360"/>
            <a:ext cx="4824360" cy="246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7640" y="1341000"/>
            <a:ext cx="6804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RNATIONAL CONFERENCE OF EXPERTS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(Venice, March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OUND TABLE OF MINISTERS OF SCIENCE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aris, UNESCO Hqs, Octo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79280" y="1413000"/>
            <a:ext cx="6840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matic Working Groups (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lectronic connectivity between academic SEE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earch Infra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uman potential in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matic regional networks of research centres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8000" y="1324440"/>
            <a:ext cx="547236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hievements. Selected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. Sharing of major research facilities in SE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 of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zhen Observator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SCO’s suppor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Expert visi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quisition of a modern light detector – CCD at Roz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a Regional Astronomical Committee (SRE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ravel g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organization of several scientific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596360" y="1916280"/>
            <a:ext cx="129528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95640" y="1483920"/>
            <a:ext cx="4032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. Human potential in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dress ‘brain drain phenomenon’ - HP funded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onation of Grid Computing to 7 Universities (Tirana, Sarajevo, East Sarajevo, Split, Skopje, Belgrade, Podgoric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upport for travel – short term vis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bases of scientific diasp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32720" y="1341360"/>
            <a:ext cx="210168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340320" y="4076640"/>
            <a:ext cx="2803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340000" y="1628280"/>
            <a:ext cx="2952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nhanced lo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ser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tegrate the SEE 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U Gri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05520" y="4221000"/>
            <a:ext cx="403848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64000" y="1413000"/>
            <a:ext cx="345600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4356000" cy="5157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84360" y="2421000"/>
            <a:ext cx="194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ex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004-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09:52:50Z</dcterms:created>
  <dc:creator>Unesco</dc:creator>
  <dc:description/>
  <dc:language>en-US</dc:language>
  <cp:lastModifiedBy>Davor Kozmus</cp:lastModifiedBy>
  <dcterms:modified xsi:type="dcterms:W3CDTF">2006-09-29T09:11:31Z</dcterms:modified>
  <cp:revision>11</cp:revision>
  <dc:subject/>
  <dc:title>dddd</dc:title>
</cp:coreProperties>
</file>